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5C27C1-D136-47F2-B1BE-861291358F8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E69085-587B-4E30-8F9D-1E41242DDF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36588-DC2B-4EAA-9CBB-FAFDEB050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C801E-067E-4D22-826D-0CB8FCB19C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019C0-05E9-4953-806F-E8443FD98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E530B-A183-4FDA-85C1-05CDF96B80C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F4006-5779-4A33-96B8-990C56991E6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3185A-886D-4817-9470-3339DA77E78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CC9BC9-7349-45BE-A47E-3DF9147FE9A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892A16-10C6-426D-BF34-867EB23908A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0575519-0903-4C07-80A8-E7A48FCE6A6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A61DBF-0274-4586-9865-B8516300E7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7F107-9D14-4404-AA44-B7E0DD6F474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29A8B7-144F-419A-A222-FE9EFD765F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1C7E3-6D81-4F1F-A3EA-BC3C3FEE139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7E91D-C44F-4B91-BAFA-70B5A3572FE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40A970-350F-413E-91E1-6280C5070AA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DDEC-71FA-49A2-8504-54483492C1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T with Optional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 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7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8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9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90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1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3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4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5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6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7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8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9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00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1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2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3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4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5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7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8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9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10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1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2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3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4" name="AutoShape 13"/>
            <p:cNvCxnSpPr>
              <a:stCxn id="315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6" name="AutoShape 17"/>
            <p:cNvCxnSpPr>
              <a:endCxn id="317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9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20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1" name="AutoShape 51"/>
            <p:cNvCxnSpPr>
              <a:stCxn id="320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2" name="AutoShape 52"/>
            <p:cNvCxnSpPr>
              <a:stCxn id="320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3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4" name="AutoShape 54"/>
            <p:cNvCxnSpPr>
              <a:stCxn id="323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5" name="AutoShape 55"/>
            <p:cNvCxnSpPr>
              <a:stCxn id="323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6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7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9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0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1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3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4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5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7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8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9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1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with Optional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n optional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style has been previously referred to as "4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ost complex version of non-blocking/AT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oftware Verifi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Performance Valid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572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4_phase_1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(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13080" y="2666880"/>
            <a:ext cx="196524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10348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m_at_target_2_phase_2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22596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048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216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44824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" name="Group 16"/>
          <p:cNvGrpSpPr/>
          <p:nvPr/>
        </p:nvGrpSpPr>
        <p:grpSpPr>
          <a:xfrm>
            <a:off x="2616120" y="5486400"/>
            <a:ext cx="3162240" cy="533520"/>
            <a:chOff x="2616120" y="5486400"/>
            <a:chExt cx="3162240" cy="533520"/>
          </a:xfrm>
        </p:grpSpPr>
        <p:sp>
          <p:nvSpPr>
            <p:cNvPr id="104" name="Rectangle 23"/>
            <p:cNvSpPr/>
            <p:nvPr/>
          </p:nvSpPr>
          <p:spPr>
            <a:xfrm>
              <a:off x="4673520" y="548640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" name="Rectangle 23"/>
            <p:cNvSpPr/>
            <p:nvPr/>
          </p:nvSpPr>
          <p:spPr>
            <a:xfrm>
              <a:off x="2616120" y="548640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6" name="Rounded Rectangular Callout 17"/>
          <p:cNvSpPr/>
          <p:nvPr/>
        </p:nvSpPr>
        <p:spPr>
          <a:xfrm>
            <a:off x="5842080" y="403848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18"/>
          <p:cNvSpPr/>
          <p:nvPr/>
        </p:nvSpPr>
        <p:spPr>
          <a:xfrm>
            <a:off x="6578640" y="254160"/>
            <a:ext cx="2565360" cy="1054080"/>
          </a:xfrm>
          <a:prstGeom prst="wedgeRoundRectCallout">
            <a:avLst>
              <a:gd name="adj1" fmla="val 17296"/>
              <a:gd name="adj2" fmla="val 19262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target does not support the “optional extension”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TextBox 19"/>
          <p:cNvSpPr/>
          <p:nvPr/>
        </p:nvSpPr>
        <p:spPr>
          <a:xfrm>
            <a:off x="241200" y="4064040"/>
            <a:ext cx="3556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enabled in initiators and m_at_target_4_phase_1 via compiler directives, not used by m_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at_extension_optional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at_extension_optional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at_extension_optional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at_extension_optional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" name="Rounded Rectangular Callout 3"/>
          <p:cNvSpPr/>
          <p:nvPr/>
        </p:nvSpPr>
        <p:spPr>
          <a:xfrm>
            <a:off x="7010280" y="1676520"/>
            <a:ext cx="2133720" cy="825480"/>
          </a:xfrm>
          <a:prstGeom prst="wedgeRoundRectCallout">
            <a:avLst>
              <a:gd name="adj1" fmla="val -132055"/>
              <a:gd name="adj2" fmla="val 20870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inted fro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target_4_phas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" name="TextBox 5"/>
          <p:cNvSpPr/>
          <p:nvPr/>
        </p:nvSpPr>
        <p:spPr>
          <a:xfrm>
            <a:off x="330120" y="711360"/>
            <a:ext cx="6832800" cy="575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starting new transaction for Addr:0x000002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0 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2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0 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extension data: 'Initiator ID: 10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starting end-request 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transaction moved to send-response PEQ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nb_transport_bw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4_phase.cpp: 10 ns - end_request_metho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Target: 201 ACCEPTED (GP, END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starting new transaction for Addr:0x1000010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nb_transport_fw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select_initiator.cpp: 1824 ns - initiator_threa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ACCEPTED (GP, BEGIN_REQ, 0 s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: 101 transaction waiting end-request on backward-path 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at_target_2_phase.cpp: 1824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…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" name="Rounded Rectangular Callout 6"/>
          <p:cNvSpPr/>
          <p:nvPr/>
        </p:nvSpPr>
        <p:spPr>
          <a:xfrm>
            <a:off x="7010280" y="5003640"/>
            <a:ext cx="2133720" cy="825840"/>
          </a:xfrm>
          <a:prstGeom prst="wedgeRoundRectCallout">
            <a:avLst>
              <a:gd name="adj1" fmla="val -118361"/>
              <a:gd name="adj2" fmla="val 34717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 ID not printed from at_target_2_phase_2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9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20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1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22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23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5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6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27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8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9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30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32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3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34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5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36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7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8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9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40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41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42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43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45" name="AutoShape 156"/>
          <p:cNvCxnSpPr>
            <a:stCxn id="146" idx="3"/>
            <a:endCxn id="147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8" name="AutoShape 157"/>
          <p:cNvCxnSpPr>
            <a:stCxn id="149" idx="2"/>
            <a:endCxn id="150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1" name="AutoShape 158"/>
          <p:cNvCxnSpPr>
            <a:stCxn id="149" idx="0"/>
            <a:endCxn id="152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3" name="AutoShape 159"/>
          <p:cNvCxnSpPr>
            <a:stCxn id="154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55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47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4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6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8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9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" name="AutoShape 173"/>
          <p:cNvCxnSpPr>
            <a:stCxn id="161" idx="2"/>
            <a:endCxn id="160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63" name="AutoShape 174"/>
          <p:cNvCxnSpPr>
            <a:stCxn id="161" idx="0"/>
            <a:endCxn id="164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64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5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7" name="Rounded Rectangular Callout 51"/>
          <p:cNvSpPr/>
          <p:nvPr/>
        </p:nvSpPr>
        <p:spPr>
          <a:xfrm>
            <a:off x="6667560" y="1104840"/>
            <a:ext cx="2108160" cy="749520"/>
          </a:xfrm>
          <a:prstGeom prst="wedgeRoundRectCallout">
            <a:avLst>
              <a:gd name="adj1" fmla="val -146421"/>
              <a:gd name="adj2" fmla="val 5002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7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7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7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7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7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7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8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8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8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9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9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95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9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9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03" name="AutoShape 80"/>
          <p:cNvCxnSpPr>
            <a:stCxn id="201" idx="3"/>
            <a:endCxn id="192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4" name="AutoShape 81"/>
          <p:cNvCxnSpPr>
            <a:stCxn id="199" idx="3"/>
            <a:endCxn id="192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82"/>
          <p:cNvCxnSpPr>
            <a:stCxn id="192" idx="3"/>
            <a:endCxn id="195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06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207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8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9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10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11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12" name="AutoShape 90"/>
          <p:cNvCxnSpPr>
            <a:stCxn id="201" idx="1"/>
            <a:endCxn id="208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13" name="AutoShape 91"/>
          <p:cNvCxnSpPr>
            <a:stCxn id="195" idx="1"/>
            <a:endCxn id="211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4" name="AutoShape 92"/>
          <p:cNvCxnSpPr>
            <a:stCxn id="201" idx="1"/>
            <a:endCxn id="211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5" name="AutoShape 93"/>
          <p:cNvCxnSpPr>
            <a:stCxn id="199" idx="1"/>
            <a:endCxn id="211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6" name="AutoShape 94"/>
          <p:cNvCxnSpPr>
            <a:stCxn id="201" idx="2"/>
            <a:endCxn id="202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7" name="AutoShape 95"/>
          <p:cNvCxnSpPr>
            <a:stCxn id="202" idx="2"/>
            <a:endCxn id="195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8" name="AutoShape 96"/>
          <p:cNvCxnSpPr>
            <a:stCxn id="195" idx="2"/>
            <a:endCxn id="200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9" name="AutoShape 97"/>
          <p:cNvCxnSpPr>
            <a:stCxn id="200" idx="2"/>
            <a:endCxn id="199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20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4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5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6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7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8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9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0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1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2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4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35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36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7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38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9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1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43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4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45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46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48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9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50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1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52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3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55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57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58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9" name="Rectangle 28"/>
          <p:cNvSpPr/>
          <p:nvPr/>
        </p:nvSpPr>
        <p:spPr>
          <a:xfrm>
            <a:off x="3505320" y="779400"/>
            <a:ext cx="5238720" cy="45547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Text Box 29"/>
          <p:cNvSpPr/>
          <p:nvPr/>
        </p:nvSpPr>
        <p:spPr>
          <a:xfrm>
            <a:off x="3567240" y="85104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4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1" name="AutoShape 30"/>
          <p:cNvCxnSpPr>
            <a:stCxn id="262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63" name="AutoShape 31"/>
          <p:cNvSpPr/>
          <p:nvPr/>
        </p:nvSpPr>
        <p:spPr>
          <a:xfrm>
            <a:off x="4184280" y="126432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64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65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62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66" name="AutoShape 35"/>
          <p:cNvSpPr/>
          <p:nvPr/>
        </p:nvSpPr>
        <p:spPr>
          <a:xfrm>
            <a:off x="3793320" y="484416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Oval 36"/>
          <p:cNvSpPr/>
          <p:nvPr/>
        </p:nvSpPr>
        <p:spPr>
          <a:xfrm>
            <a:off x="6934320" y="270684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Rectangle 37"/>
          <p:cNvSpPr/>
          <p:nvPr/>
        </p:nvSpPr>
        <p:spPr>
          <a:xfrm>
            <a:off x="4100400" y="394488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9" name="AutoShape 40"/>
          <p:cNvCxnSpPr>
            <a:stCxn id="259" idx="1"/>
            <a:endCxn id="263" idx="1"/>
          </p:cNvCxnSpPr>
          <p:nvPr/>
        </p:nvCxnSpPr>
        <p:spPr>
          <a:xfrm flipV="1">
            <a:off x="3490920" y="1450080"/>
            <a:ext cx="727560" cy="1607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70" name="AutoShape 41"/>
          <p:cNvCxnSpPr>
            <a:stCxn id="271" idx="3"/>
            <a:endCxn id="267" idx="2"/>
          </p:cNvCxnSpPr>
          <p:nvPr/>
        </p:nvCxnSpPr>
        <p:spPr>
          <a:xfrm flipV="1">
            <a:off x="6161040" y="3223440"/>
            <a:ext cx="774000" cy="18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72" name="AutoShape 42"/>
          <p:cNvCxnSpPr>
            <a:stCxn id="266" idx="1"/>
            <a:endCxn id="262" idx="4"/>
          </p:cNvCxnSpPr>
          <p:nvPr/>
        </p:nvCxnSpPr>
        <p:spPr>
          <a:xfrm flipH="1" flipV="1">
            <a:off x="3514320" y="3125160"/>
            <a:ext cx="348480" cy="190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7" name="AutoShape 40"/>
          <p:cNvCxnSpPr>
            <a:stCxn id="268" idx="2"/>
            <a:endCxn id="266" idx="0"/>
          </p:cNvCxnSpPr>
          <p:nvPr/>
        </p:nvCxnSpPr>
        <p:spPr>
          <a:xfrm flipH="1">
            <a:off x="5076360" y="4325760"/>
            <a:ext cx="7200" cy="518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71" name="AutoShape 35"/>
          <p:cNvSpPr/>
          <p:nvPr/>
        </p:nvSpPr>
        <p:spPr>
          <a:xfrm>
            <a:off x="3971880" y="3054960"/>
            <a:ext cx="224208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d_request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Rectangle 37"/>
          <p:cNvSpPr/>
          <p:nvPr/>
        </p:nvSpPr>
        <p:spPr>
          <a:xfrm>
            <a:off x="4100400" y="2174760"/>
            <a:ext cx="19638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nd_request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1073"/>
          <p:cNvCxnSpPr>
            <a:stCxn id="263" idx="2"/>
            <a:endCxn id="278" idx="0"/>
          </p:cNvCxnSpPr>
          <p:nvPr/>
        </p:nvCxnSpPr>
        <p:spPr>
          <a:xfrm>
            <a:off x="5071680" y="1638360"/>
            <a:ext cx="11880" cy="5367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1074"/>
          <p:cNvCxnSpPr>
            <a:stCxn id="278" idx="2"/>
            <a:endCxn id="271" idx="0"/>
          </p:cNvCxnSpPr>
          <p:nvPr/>
        </p:nvCxnSpPr>
        <p:spPr>
          <a:xfrm>
            <a:off x="5083200" y="2556000"/>
            <a:ext cx="10080" cy="4989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1" name="AutoShape 1075"/>
          <p:cNvCxnSpPr>
            <a:stCxn id="271" idx="2"/>
            <a:endCxn id="268" idx="0"/>
          </p:cNvCxnSpPr>
          <p:nvPr/>
        </p:nvCxnSpPr>
        <p:spPr>
          <a:xfrm flipH="1">
            <a:off x="5082840" y="3428640"/>
            <a:ext cx="10080" cy="5166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2" name="AutoShape 1076"/>
          <p:cNvCxnSpPr>
            <a:stCxn id="263" idx="3"/>
            <a:endCxn id="266" idx="3"/>
          </p:cNvCxnSpPr>
          <p:nvPr/>
        </p:nvCxnSpPr>
        <p:spPr>
          <a:xfrm>
            <a:off x="5924520" y="1450800"/>
            <a:ext cx="365760" cy="3580560"/>
          </a:xfrm>
          <a:prstGeom prst="curvedConnector5">
            <a:avLst>
              <a:gd name="adj1" fmla="val 162561"/>
              <a:gd name="adj2" fmla="val 49994"/>
              <a:gd name="adj3" fmla="val 162561"/>
            </a:avLst>
          </a:prstGeom>
          <a:ln w="2556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283" name="Text Box 43"/>
          <p:cNvSpPr/>
          <p:nvPr/>
        </p:nvSpPr>
        <p:spPr>
          <a:xfrm>
            <a:off x="6537960" y="4238640"/>
            <a:ext cx="1753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d_resp_rcvd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Rounded Rectangular Callout 52"/>
          <p:cNvSpPr/>
          <p:nvPr/>
        </p:nvSpPr>
        <p:spPr>
          <a:xfrm>
            <a:off x="431640" y="1117440"/>
            <a:ext cx="2032200" cy="762120"/>
          </a:xfrm>
          <a:prstGeom prst="wedgeRoundRectCallout">
            <a:avLst>
              <a:gd name="adj1" fmla="val 143300"/>
              <a:gd name="adj2" fmla="val -19773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5T20:50:57Z</dcterms:created>
  <dc:creator>Anna Keist, Bill Bunton, Charles Wilson</dc:creator>
  <dc:description/>
  <cp:keywords/>
  <dc:language>en-US</dc:language>
  <cp:lastModifiedBy>Torsten Maehne</cp:lastModifiedBy>
  <cp:lastPrinted>2008-06-04T21:18:56Z</cp:lastPrinted>
  <dcterms:modified xsi:type="dcterms:W3CDTF">2012-04-30T16:32:36Z</dcterms:modified>
  <cp:revision>87</cp:revision>
  <dc:subject/>
  <dc:title>AT Basic System Example</dc:title>
</cp:coreProperties>
</file>