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0B53397-02D4-4787-B0E1-B0E822B106A1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1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5F9A9-BBAD-461A-8725-ADC615FC9E2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1CC7CB-0616-4901-A20A-964228CE60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B31B7E-8940-4BBA-B57A-BD587490769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485955-2FB8-4394-A0A9-442A48A9314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7AC2D4-CAF2-4AFE-B8D2-A88AF2C3E63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109AC-C34F-4B53-AAAB-D04A08458E9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3A1ECA-FE88-484E-AE2C-24BB28A5C8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C3D7BA-90F6-4259-8021-727B2ABCB4F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AC6F01-2478-45D4-A10D-33772792DEA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17C815-5965-4244-B0E9-0C7D11B6D4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2248B-670B-4D05-BD44-F157F545F4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66D26E-AFDD-4C59-9AEC-13AC38EAAE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EA5F2-4FA6-40FF-8FF8-8281F687A1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Loosely Time (LT) with DMI System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Charles Wils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 Ma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6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57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58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59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60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61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3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4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65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66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67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68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9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0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1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72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6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77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78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79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81" name="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82" name="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"/>
            <p:cNvCxnSpPr>
              <a:stCxn id="28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6" name=""/>
            <p:cNvCxnSpPr>
              <a:endCxn id="28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8" name="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289" name="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290" name="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"/>
            <p:cNvCxnSpPr>
              <a:stCxn id="29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2" name=""/>
            <p:cNvCxnSpPr>
              <a:stCxn id="29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293" name="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4" name=""/>
            <p:cNvCxnSpPr>
              <a:stCxn id="29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295" name=""/>
            <p:cNvCxnSpPr>
              <a:stCxn id="29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296" name="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297" name="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0" name="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01" name="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4" name="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05" name="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09" name="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Minimum System Example Use Case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irtual Development Platfor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Hardware/Software Partitioning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itial Architectural Performance Analysi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pproximately Timed (AT)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i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nitiator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dmi_targe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dmi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Open a explorer window on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_dmi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_dmi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y Manager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nder ‘lt_dmi &gt; Debug | Win32’ select 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Properties’ from the ‘View’ 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lect ‘User Macros’ under 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the 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43240" y="723960"/>
            <a:ext cx="5923080" cy="563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0, 409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target.cpp: 0 s - 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2 invalidate_direct_ptr (0, 4096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1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dmi_memory.cpp: 0 s - invalidate_dmi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102 DMI Pointer not invalidated for (268435456, 268439552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Starting Traff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dmi_initiator.cpp: 0 s - initiator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with delay of 0 s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3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0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2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to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7" name=""/>
          <p:cNvCxnSpPr>
            <a:stCxn id="138" idx="0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"/>
          <p:cNvCxnSpPr>
            <a:stCxn id="146" idx="0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324480" y="44956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us Interface Logi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t_dmi_initit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9" name="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105520" y="449568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s Interface Logic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59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60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1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62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63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5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6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67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8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69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70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2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3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74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5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8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79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0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3" name="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el (lt_dmi_initiato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5" name=""/>
          <p:cNvCxnSpPr>
            <a:stCxn id="186" idx="0"/>
          </p:cNvCxnSpPr>
          <p:nvPr/>
        </p:nvCxnSpPr>
        <p:spPr>
          <a:xfrm>
            <a:off x="6651360" y="308736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7" name=""/>
          <p:cNvGrpSpPr/>
          <p:nvPr/>
        </p:nvGrpSpPr>
        <p:grpSpPr>
          <a:xfrm>
            <a:off x="6337440" y="2933640"/>
            <a:ext cx="304200" cy="304560"/>
            <a:chOff x="6337440" y="2933640"/>
            <a:chExt cx="304200" cy="304560"/>
          </a:xfrm>
        </p:grpSpPr>
        <p:sp>
          <p:nvSpPr>
            <p:cNvPr id="188" name=""/>
            <p:cNvSpPr/>
            <p:nvPr/>
          </p:nvSpPr>
          <p:spPr>
            <a:xfrm>
              <a:off x="6337440" y="293364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37440" y="293364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20680" y="13161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0960" y="2311560"/>
            <a:ext cx="304920" cy="30456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751120" y="1692360"/>
            <a:ext cx="217188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ansaction_thr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528480" y="1440000"/>
            <a:ext cx="2210040" cy="6350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555480" y="2197080"/>
            <a:ext cx="2187720" cy="2714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382800" y="2490840"/>
            <a:ext cx="1374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initiator_sock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0200" y="160344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in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34800" y="2587680"/>
            <a:ext cx="1551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99"/>
                </a:solidFill>
                <a:latin typeface="Arial"/>
              </a:rPr>
              <a:t>request_out_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944960" y="1825560"/>
            <a:ext cx="1384560" cy="1239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052240" y="1576440"/>
            <a:ext cx="116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871720" y="4443480"/>
            <a:ext cx="2421000" cy="6192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mi_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321000" y="2496960"/>
            <a:ext cx="15840" cy="196884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929120" y="2255760"/>
            <a:ext cx="1390680" cy="8352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308560" y="4621320"/>
            <a:ext cx="2387520" cy="261720"/>
          </a:xfrm>
          <a:prstGeom prst="leftRightArrow">
            <a:avLst>
              <a:gd name="adj1" fmla="val 50000"/>
              <a:gd name="adj2" fmla="val 18160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29160" y="2575080"/>
            <a:ext cx="1884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get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86240" y="3032280"/>
            <a:ext cx="2171520" cy="79200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5686560" y="3146400"/>
            <a:ext cx="637920" cy="282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364800" y="3759120"/>
            <a:ext cx="1293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memo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 targe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235400" y="3814920"/>
            <a:ext cx="673200" cy="657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Component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10" name="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1" name="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2" name="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3" name="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4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5" name="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6" name="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7" name="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8" name="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9" name="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20" name="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1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custGeom>
                    <a:avLst/>
                    <a:gdLst/>
                    <a:ahLst/>
                    <a:rect l="l" t="t" r="r" b="b"/>
                    <a:pathLst>
                      <a:path w="96" h="111">
                        <a:moveTo>
                          <a:pt x="0" y="0"/>
                        </a:moveTo>
                        <a:lnTo>
                          <a:pt x="96" y="56"/>
                        </a:lnTo>
                        <a:lnTo>
                          <a:pt x="0" y="111"/>
                        </a:lnTo>
                      </a:path>
                    </a:pathLst>
                  </a:cu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3" name="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4" name="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6" name="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7" name="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9" name="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30" name="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31" name="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4" name="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567240" y="1311120"/>
            <a:ext cx="338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dmi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6" name=""/>
          <p:cNvCxnSpPr>
            <a:stCxn id="237" idx="0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8" name=""/>
          <p:cNvSpPr/>
          <p:nvPr/>
        </p:nvSpPr>
        <p:spPr>
          <a:xfrm>
            <a:off x="4173480" y="2103480"/>
            <a:ext cx="1236600" cy="6397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9" name=""/>
          <p:cNvCxnSpPr>
            <a:stCxn id="238" idx="1"/>
            <a:endCxn id="237" idx="1"/>
          </p:cNvCxnSpPr>
          <p:nvPr/>
        </p:nvCxnSpPr>
        <p:spPr>
          <a:xfrm flipH="1">
            <a:off x="3514320" y="2423880"/>
            <a:ext cx="659520" cy="702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grpSp>
        <p:nvGrpSpPr>
          <p:cNvPr id="240" name="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41" name="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200400" y="29718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5423040" y="2451240"/>
            <a:ext cx="888840" cy="342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924360" y="4156200"/>
            <a:ext cx="1908000" cy="5810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get_direct_memo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824440" y="3429000"/>
            <a:ext cx="830520" cy="10396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5" name=""/>
          <p:cNvCxnSpPr>
            <a:stCxn id="243" idx="1"/>
            <a:endCxn id="237" idx="2"/>
          </p:cNvCxnSpPr>
          <p:nvPr/>
        </p:nvCxnSpPr>
        <p:spPr>
          <a:xfrm flipH="1" flipV="1">
            <a:off x="3514320" y="3125520"/>
            <a:ext cx="410400" cy="1321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sm"/>
          </a:ln>
        </p:spPr>
      </p:cxnSp>
      <p:sp>
        <p:nvSpPr>
          <p:cNvPr id="246" name=""/>
          <p:cNvSpPr/>
          <p:nvPr/>
        </p:nvSpPr>
        <p:spPr>
          <a:xfrm>
            <a:off x="4340160" y="3235320"/>
            <a:ext cx="1619280" cy="51264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oggle_dmi_metho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842000" y="2758680"/>
            <a:ext cx="1440" cy="47484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H="1" flipV="1">
            <a:off x="3541680" y="3159000"/>
            <a:ext cx="806400" cy="2700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045800" y="3686040"/>
            <a:ext cx="244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validate_direct_mem_pt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3048120" y="3309840"/>
            <a:ext cx="855720" cy="41616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790040" y="2801880"/>
            <a:ext cx="965160" cy="416160"/>
          </a:xfrm>
          <a:prstGeom prst="leftRightArrow">
            <a:avLst>
              <a:gd name="adj1" fmla="val 50000"/>
              <a:gd name="adj2" fmla="val 46169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837560" y="1692360"/>
            <a:ext cx="1155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rect pointer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ccess from an initi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58920" y="2932200"/>
            <a:ext cx="2331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_dmi_base_address_fla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224760" y="2606760"/>
            <a:ext cx="1557000" cy="8222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memor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Anna Keist, Bill Bunton, Charles Wilson</dc:creator>
  <dc:description/>
  <cp:keywords/>
  <dc:language>en-US</dc:language>
  <cp:lastModifiedBy>Torsten Maehne</cp:lastModifiedBy>
  <dcterms:modified xsi:type="dcterms:W3CDTF">2012-04-30T17:09:30Z</dcterms:modified>
  <cp:revision>79</cp:revision>
  <dc:subject/>
  <dc:title>AT Basic System Example</dc:title>
</cp:coreProperties>
</file>