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B500C09-386D-411E-B93B-B3A243DA71C7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7AC25C6-8EB7-46E1-85B1-CE7059ED065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4B397A9-8D1F-41CC-8039-0BFB7418E27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B1CC272-BF1E-4ED4-9F98-3FAAD930807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4CE400C-698B-4BE5-A0AD-324BD2D5BDFB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44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C5FAA2-9DFC-4BCB-88A8-A3CDD62568F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C1D72-ECB9-4F6B-93FA-577870D693F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0A6F3A-F4F6-46B9-8B98-B6E49D88EE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AE8045-1DEB-44E4-8B32-74BE5FD7578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ADE3DC-291A-4006-B261-7138E6E11FC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094776-3FD3-457B-9FBC-5991B83FD15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295768-9677-4F76-8DE8-62FE7755351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B9D5A-10B1-44A4-B10E-120D8C8DFEE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3C7D4-5F9D-496E-B2EC-0A36CC8002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A74E0D-D8DC-4657-82AE-832B5F85F0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65B725-EC1A-4458-B6DA-2EC4664AD35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0401FD-D050-4EA3-8E9C-9B8E1A9BBE1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105E2-8730-412F-A852-86DCD4AFECB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 (AT) System Example – Mixed AT System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9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20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1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3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4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8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30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1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3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4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5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6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7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9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40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1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2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3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4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6" name="AutoShape 156"/>
          <p:cNvCxnSpPr>
            <a:stCxn id="147" idx="3"/>
            <a:endCxn id="148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9" name="AutoShape 157"/>
          <p:cNvCxnSpPr>
            <a:stCxn id="150" idx="2"/>
            <a:endCxn id="151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2" name="AutoShape 158"/>
          <p:cNvCxnSpPr>
            <a:stCxn id="150" idx="0"/>
            <a:endCxn id="153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4" name="AutoShape 159"/>
          <p:cNvCxnSpPr>
            <a:stCxn id="155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6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8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9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60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3" name="AutoShape 173"/>
          <p:cNvCxnSpPr>
            <a:stCxn id="162" idx="2"/>
            <a:endCxn id="161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4" name="AutoShape 174"/>
          <p:cNvCxnSpPr>
            <a:stCxn id="162" idx="0"/>
            <a:endCxn id="165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5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480" y="143028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3160" y="421812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9080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63" idx="3"/>
            <a:endCxn id="267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1" name="AutoShape 42"/>
          <p:cNvCxnSpPr>
            <a:stCxn id="266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2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3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Text Box 45"/>
          <p:cNvSpPr/>
          <p:nvPr/>
        </p:nvSpPr>
        <p:spPr>
          <a:xfrm>
            <a:off x="1960200" y="406404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6" name="AutoShape 40"/>
          <p:cNvCxnSpPr>
            <a:stCxn id="263" idx="2"/>
            <a:endCxn id="268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9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0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1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2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3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84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5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6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7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8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0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1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5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7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9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0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1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2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3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04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5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06" name="AutoShape 30"/>
          <p:cNvCxnSpPr>
            <a:stCxn id="307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08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09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10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11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2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3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14" name="AutoShape 40"/>
          <p:cNvCxnSpPr>
            <a:stCxn id="304" idx="1"/>
            <a:endCxn id="308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15" name="AutoShape 41"/>
          <p:cNvCxnSpPr>
            <a:stCxn id="308" idx="3"/>
            <a:endCxn id="312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16" name="AutoShape 42"/>
          <p:cNvCxnSpPr>
            <a:stCxn id="311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17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8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9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20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21" name="AutoShape 40"/>
          <p:cNvCxnSpPr>
            <a:stCxn id="308" idx="2"/>
            <a:endCxn id="313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2" name="AutoShape 40"/>
          <p:cNvCxnSpPr>
            <a:stCxn id="313" idx="2"/>
            <a:endCxn id="311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23" name="AutoShape 47"/>
          <p:cNvCxnSpPr>
            <a:stCxn id="311" idx="3"/>
            <a:endCxn id="308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324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2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2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2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3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3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3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3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3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3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3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4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4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4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4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4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4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4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5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51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53" name="AutoShape 30"/>
          <p:cNvCxnSpPr>
            <a:stCxn id="35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355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5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35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58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1" name="AutoShape 40"/>
          <p:cNvCxnSpPr>
            <a:stCxn id="351" idx="1"/>
            <a:endCxn id="355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62" name="AutoShape 41"/>
          <p:cNvCxnSpPr>
            <a:stCxn id="363" idx="3"/>
            <a:endCxn id="359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364" name="AutoShape 42"/>
          <p:cNvCxnSpPr>
            <a:stCxn id="358" idx="1"/>
            <a:endCxn id="354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69" name="AutoShape 40"/>
          <p:cNvCxnSpPr>
            <a:stCxn id="360" idx="2"/>
            <a:endCxn id="358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63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371" name="AutoShape 1073"/>
          <p:cNvCxnSpPr>
            <a:stCxn id="355" idx="2"/>
            <a:endCxn id="370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2" name="AutoShape 1074"/>
          <p:cNvCxnSpPr>
            <a:stCxn id="370" idx="2"/>
            <a:endCxn id="363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3" name="AutoShape 1075"/>
          <p:cNvCxnSpPr>
            <a:stCxn id="363" idx="2"/>
            <a:endCxn id="360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374" name="AutoShape 1076"/>
          <p:cNvCxnSpPr>
            <a:stCxn id="355" idx="3"/>
            <a:endCxn id="358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75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7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378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379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0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381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382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3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84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85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386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87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388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389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91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2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93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4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95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96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97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98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99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400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401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402" name="Rectangle 4"/>
          <p:cNvSpPr/>
          <p:nvPr/>
        </p:nvSpPr>
        <p:spPr>
          <a:xfrm>
            <a:off x="380880" y="1143000"/>
            <a:ext cx="8458200" cy="15238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3" name="Text Box 6"/>
          <p:cNvSpPr/>
          <p:nvPr/>
        </p:nvSpPr>
        <p:spPr>
          <a:xfrm>
            <a:off x="425520" y="12193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outer Model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mpleBusAT&lt;2,3&gt;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04" name="AutoShape 13"/>
          <p:cNvCxnSpPr/>
          <p:nvPr/>
        </p:nvCxnSpPr>
        <p:spPr>
          <a:xfrm>
            <a:off x="6756480" y="265752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5" name="AutoShape 17"/>
          <p:cNvCxnSpPr>
            <a:endCxn id="406" idx="0"/>
          </p:cNvCxnSpPr>
          <p:nvPr/>
        </p:nvCxnSpPr>
        <p:spPr>
          <a:xfrm flipV="1">
            <a:off x="7848360" y="2657160"/>
            <a:ext cx="108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7" name="AutoShape 46"/>
          <p:cNvCxnSpPr/>
          <p:nvPr/>
        </p:nvCxnSpPr>
        <p:spPr>
          <a:xfrm>
            <a:off x="1294920" y="2819520"/>
            <a:ext cx="252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408" name="AutoShape 47"/>
          <p:cNvCxnSpPr/>
          <p:nvPr/>
        </p:nvCxnSpPr>
        <p:spPr>
          <a:xfrm flipV="1">
            <a:off x="3428640" y="2819160"/>
            <a:ext cx="1080" cy="1372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409" name="Text Box 50"/>
          <p:cNvSpPr/>
          <p:nvPr/>
        </p:nvSpPr>
        <p:spPr>
          <a:xfrm>
            <a:off x="5646960" y="4902120"/>
            <a:ext cx="223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sockets (3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0" name="AutoShape 51"/>
          <p:cNvCxnSpPr>
            <a:stCxn id="409" idx="0"/>
          </p:cNvCxnSpPr>
          <p:nvPr/>
        </p:nvCxnSpPr>
        <p:spPr>
          <a:xfrm flipV="1">
            <a:off x="6761520" y="3090240"/>
            <a:ext cx="9342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1" name="AutoShape 52"/>
          <p:cNvCxnSpPr>
            <a:stCxn id="409" idx="0"/>
          </p:cNvCxnSpPr>
          <p:nvPr/>
        </p:nvCxnSpPr>
        <p:spPr>
          <a:xfrm flipH="1" flipV="1">
            <a:off x="5790960" y="3090240"/>
            <a:ext cx="972000" cy="181188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sp>
        <p:nvSpPr>
          <p:cNvPr id="412" name="Text Box 53"/>
          <p:cNvSpPr/>
          <p:nvPr/>
        </p:nvSpPr>
        <p:spPr>
          <a:xfrm>
            <a:off x="1164240" y="4419720"/>
            <a:ext cx="243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sockets (2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13" name="AutoShape 54"/>
          <p:cNvCxnSpPr>
            <a:stCxn id="412" idx="0"/>
          </p:cNvCxnSpPr>
          <p:nvPr/>
        </p:nvCxnSpPr>
        <p:spPr>
          <a:xfrm flipV="1">
            <a:off x="2383920" y="2666160"/>
            <a:ext cx="89316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14" name="AutoShape 55"/>
          <p:cNvCxnSpPr>
            <a:stCxn id="412" idx="0"/>
          </p:cNvCxnSpPr>
          <p:nvPr/>
        </p:nvCxnSpPr>
        <p:spPr>
          <a:xfrm flipH="1" flipV="1">
            <a:off x="1447200" y="2666160"/>
            <a:ext cx="937080" cy="17535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  <p:grpSp>
        <p:nvGrpSpPr>
          <p:cNvPr id="415" name="Group 89"/>
          <p:cNvGrpSpPr/>
          <p:nvPr/>
        </p:nvGrpSpPr>
        <p:grpSpPr>
          <a:xfrm>
            <a:off x="6603840" y="2666520"/>
            <a:ext cx="304920" cy="305280"/>
            <a:chOff x="6603840" y="2666520"/>
            <a:chExt cx="304920" cy="305280"/>
          </a:xfrm>
        </p:grpSpPr>
        <p:sp>
          <p:nvSpPr>
            <p:cNvPr id="416" name="Rectangle 82"/>
            <p:cNvSpPr/>
            <p:nvPr/>
          </p:nvSpPr>
          <p:spPr>
            <a:xfrm>
              <a:off x="660384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Line 84"/>
            <p:cNvSpPr/>
            <p:nvPr/>
          </p:nvSpPr>
          <p:spPr>
            <a:xfrm flipV="1">
              <a:off x="660384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Line 85"/>
            <p:cNvSpPr/>
            <p:nvPr/>
          </p:nvSpPr>
          <p:spPr>
            <a:xfrm>
              <a:off x="675612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19" name="Group 90"/>
          <p:cNvGrpSpPr/>
          <p:nvPr/>
        </p:nvGrpSpPr>
        <p:grpSpPr>
          <a:xfrm>
            <a:off x="1143000" y="2666520"/>
            <a:ext cx="304560" cy="305280"/>
            <a:chOff x="1143000" y="2666520"/>
            <a:chExt cx="304560" cy="305280"/>
          </a:xfrm>
        </p:grpSpPr>
        <p:sp>
          <p:nvSpPr>
            <p:cNvPr id="420" name="Rectangle 86"/>
            <p:cNvSpPr/>
            <p:nvPr/>
          </p:nvSpPr>
          <p:spPr>
            <a:xfrm>
              <a:off x="114300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1" name="Line 87"/>
            <p:cNvSpPr/>
            <p:nvPr/>
          </p:nvSpPr>
          <p:spPr>
            <a:xfrm flipV="1">
              <a:off x="12952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2" name="Line 88"/>
            <p:cNvSpPr/>
            <p:nvPr/>
          </p:nvSpPr>
          <p:spPr>
            <a:xfrm>
              <a:off x="114300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3" name="Group 91"/>
          <p:cNvGrpSpPr/>
          <p:nvPr/>
        </p:nvGrpSpPr>
        <p:grpSpPr>
          <a:xfrm>
            <a:off x="3276720" y="2666520"/>
            <a:ext cx="304560" cy="305280"/>
            <a:chOff x="3276720" y="2666520"/>
            <a:chExt cx="304560" cy="305280"/>
          </a:xfrm>
        </p:grpSpPr>
        <p:sp>
          <p:nvSpPr>
            <p:cNvPr id="424" name="Rectangle 92"/>
            <p:cNvSpPr/>
            <p:nvPr/>
          </p:nvSpPr>
          <p:spPr>
            <a:xfrm>
              <a:off x="3276720" y="2666880"/>
              <a:ext cx="30456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5" name="Line 93"/>
            <p:cNvSpPr/>
            <p:nvPr/>
          </p:nvSpPr>
          <p:spPr>
            <a:xfrm flipV="1">
              <a:off x="342900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94"/>
            <p:cNvSpPr/>
            <p:nvPr/>
          </p:nvSpPr>
          <p:spPr>
            <a:xfrm>
              <a:off x="3276720" y="266688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27" name="Group 95"/>
          <p:cNvGrpSpPr/>
          <p:nvPr/>
        </p:nvGrpSpPr>
        <p:grpSpPr>
          <a:xfrm>
            <a:off x="7696080" y="2666520"/>
            <a:ext cx="304920" cy="305280"/>
            <a:chOff x="7696080" y="2666520"/>
            <a:chExt cx="304920" cy="305280"/>
          </a:xfrm>
        </p:grpSpPr>
        <p:sp>
          <p:nvSpPr>
            <p:cNvPr id="428" name="Rectangle 96"/>
            <p:cNvSpPr/>
            <p:nvPr/>
          </p:nvSpPr>
          <p:spPr>
            <a:xfrm>
              <a:off x="7696080" y="2666880"/>
              <a:ext cx="304920" cy="30492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9" name="Line 97"/>
            <p:cNvSpPr/>
            <p:nvPr/>
          </p:nvSpPr>
          <p:spPr>
            <a:xfrm flipV="1">
              <a:off x="7696080" y="2666520"/>
              <a:ext cx="15228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0" name="Line 98"/>
            <p:cNvSpPr/>
            <p:nvPr/>
          </p:nvSpPr>
          <p:spPr>
            <a:xfrm>
              <a:off x="7848360" y="2666880"/>
              <a:ext cx="152640" cy="30492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1" name="AutoShape 13"/>
          <p:cNvCxnSpPr/>
          <p:nvPr/>
        </p:nvCxnSpPr>
        <p:spPr>
          <a:xfrm>
            <a:off x="5626080" y="2662200"/>
            <a:ext cx="2160" cy="153432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432" name="Group 89"/>
          <p:cNvGrpSpPr/>
          <p:nvPr/>
        </p:nvGrpSpPr>
        <p:grpSpPr>
          <a:xfrm>
            <a:off x="5473800" y="2671920"/>
            <a:ext cx="304560" cy="304560"/>
            <a:chOff x="5473800" y="2671920"/>
            <a:chExt cx="304560" cy="304560"/>
          </a:xfrm>
        </p:grpSpPr>
        <p:sp>
          <p:nvSpPr>
            <p:cNvPr id="433" name="Rectangle 82"/>
            <p:cNvSpPr/>
            <p:nvPr/>
          </p:nvSpPr>
          <p:spPr>
            <a:xfrm>
              <a:off x="5473800" y="267192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4" name="Line 84"/>
            <p:cNvSpPr/>
            <p:nvPr/>
          </p:nvSpPr>
          <p:spPr>
            <a:xfrm flipV="1">
              <a:off x="5473800" y="2671920"/>
              <a:ext cx="15192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5" name="Line 85"/>
            <p:cNvSpPr/>
            <p:nvPr/>
          </p:nvSpPr>
          <p:spPr>
            <a:xfrm>
              <a:off x="5625720" y="2671920"/>
              <a:ext cx="152280" cy="30456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36" name="AutoShape 52"/>
          <p:cNvCxnSpPr>
            <a:stCxn id="409" idx="0"/>
          </p:cNvCxnSpPr>
          <p:nvPr/>
        </p:nvCxnSpPr>
        <p:spPr>
          <a:xfrm flipH="1" flipV="1">
            <a:off x="6760800" y="4173120"/>
            <a:ext cx="2160" cy="729360"/>
          </a:xfrm>
          <a:prstGeom prst="straightConnector1">
            <a:avLst/>
          </a:prstGeom>
          <a:ln w="9360">
            <a:solidFill>
              <a:srgbClr val="0000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 interoperability of different AT styl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modeling with available mode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267192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404352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31291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" name="AutoShape 28"/>
          <p:cNvSpPr/>
          <p:nvPr/>
        </p:nvSpPr>
        <p:spPr>
          <a:xfrm>
            <a:off x="6607080" y="17398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Rectangle 25"/>
          <p:cNvSpPr/>
          <p:nvPr/>
        </p:nvSpPr>
        <p:spPr>
          <a:xfrm>
            <a:off x="5740560" y="59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4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4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1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4"/>
          <p:cNvSpPr/>
          <p:nvPr/>
        </p:nvSpPr>
        <p:spPr>
          <a:xfrm>
            <a:off x="387360" y="1235160"/>
            <a:ext cx="85615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0 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1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COMPLETED (GP, BEGIN_REQ, 40 n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arget omitted end-request timing-point returning ACCEPTED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303120" y="763560"/>
            <a:ext cx="8537760" cy="55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5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starting 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80 ns - pri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2 COMMAND: WRITE Length: 04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1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nb_transport_bw 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80 ns - begin_response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0 ns - 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87 ns - send_end_rsp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1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TextBox 3"/>
          <p:cNvSpPr/>
          <p:nvPr/>
        </p:nvSpPr>
        <p:spPr>
          <a:xfrm>
            <a:off x="469800" y="1120680"/>
            <a:ext cx="8326440" cy="444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2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74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74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end-request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984 ns - end_request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98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END_REQ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Oval Callout 4"/>
          <p:cNvSpPr/>
          <p:nvPr/>
        </p:nvSpPr>
        <p:spPr>
          <a:xfrm>
            <a:off x="7419960" y="3257640"/>
            <a:ext cx="1515960" cy="103500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00cc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Address modified by router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– Target ID: 203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(2 of 2)</a:t>
            </a:r>
            <a:endParaRPr b="1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" name="TextBox 3"/>
          <p:cNvSpPr/>
          <p:nvPr/>
        </p:nvSpPr>
        <p:spPr>
          <a:xfrm>
            <a:off x="365040" y="1370160"/>
            <a:ext cx="8535960" cy="423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2014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3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200 Data: 0xDFFFFD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2014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3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14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bw (GP, BEGIN_RESP, 0 s)from Addr:0x000002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2021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COMPLETED (GP, END_RESP, 0 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8:20:25Z</dcterms:created>
  <dc:creator>Anna Keist, Bill Bunton, Charles Wilson</dc:creator>
  <dc:description/>
  <cp:keywords/>
  <dc:language>en-US</dc:language>
  <cp:lastModifiedBy>Torsten Maehne</cp:lastModifiedBy>
  <dcterms:modified xsi:type="dcterms:W3CDTF">2012-04-30T16:36:42Z</dcterms:modified>
  <cp:revision>85</cp:revision>
  <dc:subject/>
  <dc:title>AT Basic System Example</dc:title>
</cp:coreProperties>
</file>