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C0C7FC9-D0A6-4AAF-8FE6-CBBCD916AAA2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5E926E5-5ECC-4865-B7B4-944BC1F7113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0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946D209-8C3C-4B12-A33D-F73843D07AC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3A07E7A-CE0B-4708-8340-71D27D916D7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90B927E-62F4-4D0E-A11F-168C290D096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003BB-6DF7-4202-9732-D827AB41E8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750BA-B2BC-4843-B7C2-B54185ADDBD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B3B0B7-6911-4FCF-8812-31E90E85AB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55B9CD-D11A-4B4E-9250-55CA5CB752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0718D2-3B01-4662-9EAF-7086CC5193E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D33B46-4B1B-467C-AABB-195155C24CD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923822-898E-4602-ADBA-0E865B1C4A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E3F7C0-D1D3-499F-A4AE-D656E967C11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74F5E-D744-461D-BE64-8A5A7724024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8BE18-0B37-4DD8-9E45-6C3D0F2BD5F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BCB014-8DB9-4BBA-8291-1538BAA60A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CDC30-62F7-40C5-B22F-7944771A36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A1EAE-0876-49C5-A0DE-065A17654A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Temporal Decoupled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9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0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1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2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3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4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5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6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7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8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9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0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1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5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6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7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8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9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0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1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2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3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74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75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6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7" name="AutoShape 13"/>
            <p:cNvCxnSpPr>
              <a:stCxn id="278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79" name="AutoShape 17"/>
            <p:cNvCxnSpPr>
              <a:endCxn id="280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1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2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83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4" name="AutoShape 51"/>
            <p:cNvCxnSpPr>
              <a:stCxn id="283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5" name="AutoShape 52"/>
            <p:cNvCxnSpPr>
              <a:stCxn id="283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86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87" name="AutoShape 54"/>
            <p:cNvCxnSpPr>
              <a:stCxn id="286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88" name="AutoShape 55"/>
            <p:cNvCxnSpPr>
              <a:stCxn id="286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89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0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1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2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3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294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5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6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297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298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99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0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01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2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3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4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td_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temporal_decoupl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temporal_decoupl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_temporal_decoupl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7880" indent="-2278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1560" y="874800"/>
            <a:ext cx="84790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0 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dr: 0x0000000000000000 Data: 0x0000000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0 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Forcing a synch in a temporal decoupled initiator with wait( 80 ns)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synch_target.cpp: 80 ns - custom_b_transpor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rget: 201 return from wait will return a delay of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: 102 b_transport returned delay = 0 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83884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s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 or td_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 or lt_td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27160" y="981000"/>
            <a:ext cx="5087880" cy="4295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d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480" y="3109680"/>
            <a:ext cx="175968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7" name="Oval 36"/>
          <p:cNvSpPr/>
          <p:nvPr/>
        </p:nvSpPr>
        <p:spPr>
          <a:xfrm>
            <a:off x="4340160" y="4159080"/>
            <a:ext cx="1908360" cy="9334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tum_keepe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8" name=""/>
          <p:cNvCxnSpPr>
            <a:stCxn id="189" idx="2"/>
            <a:endCxn id="207" idx="0"/>
          </p:cNvCxnSpPr>
          <p:nvPr/>
        </p:nvCxnSpPr>
        <p:spPr>
          <a:xfrm>
            <a:off x="4572000" y="3297240"/>
            <a:ext cx="722520" cy="862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 or lt_synch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10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1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2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3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4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5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7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8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9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0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1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2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3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4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5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6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7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8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9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0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1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2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3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4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5" name="Rectangle 28"/>
          <p:cNvSpPr/>
          <p:nvPr/>
        </p:nvSpPr>
        <p:spPr>
          <a:xfrm>
            <a:off x="3505320" y="1219320"/>
            <a:ext cx="491940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29"/>
          <p:cNvSpPr/>
          <p:nvPr/>
        </p:nvSpPr>
        <p:spPr>
          <a:xfrm>
            <a:off x="3567240" y="1311120"/>
            <a:ext cx="4821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 or lt_synch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7" name="AutoShape 30"/>
          <p:cNvCxnSpPr>
            <a:stCxn id="238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9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0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2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3" name="AutoShape 40"/>
          <p:cNvCxnSpPr>
            <a:stCxn id="235" idx="1"/>
            <a:endCxn id="239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4" name="AutoShape 41"/>
          <p:cNvCxnSpPr>
            <a:stCxn id="239" idx="3"/>
            <a:endCxn id="242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5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82520" y="3538440"/>
            <a:ext cx="104824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 and lt synch_target ar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entical except lt_synch_target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lls SystemC's "wait" each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ausing the quantum_keeper 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"synch" during the next check in the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3Z</dcterms:modified>
  <cp:revision>87</cp:revision>
  <dc:subject/>
  <dc:title>AT Basic System Example</dc:title>
</cp:coreProperties>
</file>