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1DE9357-56C4-448E-8625-C60882EB11A4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299D8AA7-77E5-468E-A79F-D04270C0C3AF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867CEBE-43CC-4A3E-A691-443721E1D083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8B4CB2B-4509-4A0F-B92B-075BE736144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5619AB5-7571-4C41-90F6-F5EBA1A98ED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56D790-52C5-403B-9B7E-17D8F3FBD1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8169-53C2-4246-9E46-0EE2F202F27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A1FE1-5CE5-41F7-8A34-F923FA84FF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8B4101-F468-4428-8889-2B57CDF5091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ACD4DE-3A21-47B1-9A28-EC48F6BE253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A21C5F-E2C2-4D52-BFC3-A258D79EB0D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029A9-6473-474F-9681-DCF0B5D66C9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BDED7E-A902-41E0-9D48-7BF8624C940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F7A052-0ED7-4A17-88B8-1FB79F7FFF3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2C4A6-E326-4F3E-B758-EDD62E13A3A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4FD820-361A-4B9B-A795-AE31C7503C2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E60C4C-2F9D-40B5-9C83-06ECCD3D33E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381E-B62E-4551-9CA9-2F425D7FF0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Out Of Order Transaction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8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8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8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8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9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9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9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9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9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9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20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20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20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20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20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0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21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1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16" name="AutoShape 80"/>
          <p:cNvCxnSpPr>
            <a:stCxn id="214" idx="3"/>
            <a:endCxn id="20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81"/>
          <p:cNvCxnSpPr>
            <a:stCxn id="212" idx="3"/>
            <a:endCxn id="20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82"/>
          <p:cNvCxnSpPr>
            <a:stCxn id="205" idx="3"/>
            <a:endCxn id="20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1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2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2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2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25" name="AutoShape 90"/>
          <p:cNvCxnSpPr>
            <a:stCxn id="214" idx="1"/>
            <a:endCxn id="22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26" name="AutoShape 91"/>
          <p:cNvCxnSpPr>
            <a:stCxn id="208" idx="1"/>
            <a:endCxn id="22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7" name="AutoShape 92"/>
          <p:cNvCxnSpPr>
            <a:stCxn id="214" idx="1"/>
            <a:endCxn id="22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8" name="AutoShape 93"/>
          <p:cNvCxnSpPr>
            <a:stCxn id="212" idx="1"/>
            <a:endCxn id="22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29" name="AutoShape 94"/>
          <p:cNvCxnSpPr>
            <a:stCxn id="214" idx="2"/>
            <a:endCxn id="21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0" name="AutoShape 95"/>
          <p:cNvCxnSpPr>
            <a:stCxn id="215" idx="2"/>
            <a:endCxn id="20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1" name="AutoShape 96"/>
          <p:cNvCxnSpPr>
            <a:stCxn id="208" idx="2"/>
            <a:endCxn id="21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32" name="AutoShape 97"/>
          <p:cNvCxnSpPr>
            <a:stCxn id="213" idx="2"/>
            <a:endCxn id="21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3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6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8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1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4" name="AutoShape 30"/>
          <p:cNvCxnSpPr>
            <a:stCxn id="2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2" name="AutoShape 40"/>
          <p:cNvCxnSpPr>
            <a:stCxn id="272" idx="1"/>
            <a:endCxn id="276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3" name="AutoShape 41"/>
          <p:cNvCxnSpPr>
            <a:stCxn id="276" idx="3"/>
            <a:endCxn id="280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84" name="AutoShape 42"/>
          <p:cNvCxnSpPr>
            <a:stCxn id="27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8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7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89" name="AutoShape 40"/>
          <p:cNvCxnSpPr>
            <a:stCxn id="276" idx="2"/>
            <a:endCxn id="28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90" name="AutoShape 40"/>
          <p:cNvCxnSpPr>
            <a:stCxn id="281" idx="2"/>
            <a:endCxn id="27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2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93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94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6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7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01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03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04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6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7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8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9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10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1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12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13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14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15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6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7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8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13"/>
            <p:cNvCxnSpPr>
              <a:stCxn id="321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2" name="AutoShape 17"/>
            <p:cNvCxnSpPr>
              <a:endCxn id="323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4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25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6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7" name="AutoShape 51"/>
            <p:cNvCxnSpPr>
              <a:stCxn id="326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8" name="AutoShape 52"/>
            <p:cNvCxnSpPr>
              <a:stCxn id="326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9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0" name="AutoShape 54"/>
            <p:cNvCxnSpPr>
              <a:stCxn id="329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31" name="AutoShape 55"/>
            <p:cNvCxnSpPr>
              <a:stCxn id="329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32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33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4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6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7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8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0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41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2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3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4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45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6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how out of order REQ and RESP pha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8648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66760" y="2971800"/>
            <a:ext cx="669456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6676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76440" y="434340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4444920" y="851040"/>
            <a:ext cx="2481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ooo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ooo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9084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8116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5576760" y="204156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600880" y="342900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ooo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ooo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ooo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ooo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1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1680" y="965160"/>
            <a:ext cx="7442280" cy="492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out of order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100 and a delay of 7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3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84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transaction moved to 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with Addr: 0x00000200 and a delay of 80 n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UPDATED (GP, END_REQ, 2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" name="TextBox 3"/>
          <p:cNvSpPr/>
          <p:nvPr/>
        </p:nvSpPr>
        <p:spPr>
          <a:xfrm>
            <a:off x="141120" y="928800"/>
            <a:ext cx="1422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2976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187200" y="267984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2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" name="TextBox 5"/>
          <p:cNvSpPr/>
          <p:nvPr/>
        </p:nvSpPr>
        <p:spPr>
          <a:xfrm>
            <a:off x="187200" y="491508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2" name="Straight Arrow Connector 7"/>
          <p:cNvCxnSpPr>
            <a:stCxn id="109" idx="3"/>
          </p:cNvCxnSpPr>
          <p:nvPr/>
        </p:nvCxnSpPr>
        <p:spPr>
          <a:xfrm flipV="1">
            <a:off x="1563480" y="1127880"/>
            <a:ext cx="470520" cy="327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3" name="Straight Arrow Connector 9"/>
          <p:cNvCxnSpPr>
            <a:stCxn id="110" idx="3"/>
          </p:cNvCxnSpPr>
          <p:nvPr/>
        </p:nvCxnSpPr>
        <p:spPr>
          <a:xfrm>
            <a:off x="1609560" y="2910960"/>
            <a:ext cx="448560" cy="3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4" name="Straight Arrow Connector 11"/>
          <p:cNvCxnSpPr>
            <a:stCxn id="111" idx="3"/>
          </p:cNvCxnSpPr>
          <p:nvPr/>
        </p:nvCxnSpPr>
        <p:spPr>
          <a:xfrm flipV="1">
            <a:off x="1609560" y="4632120"/>
            <a:ext cx="448560" cy="513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5" name="Left Brace 12"/>
          <p:cNvSpPr/>
          <p:nvPr/>
        </p:nvSpPr>
        <p:spPr>
          <a:xfrm>
            <a:off x="1576440" y="976320"/>
            <a:ext cx="528480" cy="206856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68560"/>
              <a:gd name="textAreaBottom" fmla="*/ 2054880 h 206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TextBox 13"/>
          <p:cNvSpPr/>
          <p:nvPr/>
        </p:nvSpPr>
        <p:spPr>
          <a:xfrm>
            <a:off x="587520" y="1774800"/>
            <a:ext cx="1306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Left Brace 14"/>
          <p:cNvSpPr/>
          <p:nvPr/>
        </p:nvSpPr>
        <p:spPr>
          <a:xfrm>
            <a:off x="1681200" y="3162240"/>
            <a:ext cx="528480" cy="2070000"/>
          </a:xfrm>
          <a:custGeom>
            <a:avLst/>
            <a:gdLst>
              <a:gd name="textAreaLeft" fmla="*/ 337680 w 528480"/>
              <a:gd name="textAreaRight" fmla="*/ 528840 w 528480"/>
              <a:gd name="textAreaTop" fmla="*/ 13680 h 2070000"/>
              <a:gd name="textAreaBottom" fmla="*/ 2056320 h 2070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30"/>
                  <a:pt x="10800" y="460"/>
                </a:cubicBezTo>
                <a:lnTo>
                  <a:pt x="10800" y="10340"/>
                </a:lnTo>
                <a:cubicBezTo>
                  <a:pt x="10800" y="10570"/>
                  <a:pt x="5400" y="10800"/>
                  <a:pt x="0" y="10800"/>
                </a:cubicBezTo>
                <a:cubicBezTo>
                  <a:pt x="5400" y="10800"/>
                  <a:pt x="10800" y="11030"/>
                  <a:pt x="10800" y="11260"/>
                </a:cubicBezTo>
                <a:lnTo>
                  <a:pt x="10800" y="21140"/>
                </a:lnTo>
                <a:cubicBezTo>
                  <a:pt x="10800" y="2137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TextBox 16"/>
          <p:cNvSpPr/>
          <p:nvPr/>
        </p:nvSpPr>
        <p:spPr>
          <a:xfrm>
            <a:off x="539640" y="3949560"/>
            <a:ext cx="130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Q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2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1708920" y="966960"/>
            <a:ext cx="7313040" cy="48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6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200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192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EFFFFD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2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2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3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193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. . 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" name="Left Brace 4"/>
          <p:cNvSpPr/>
          <p:nvPr/>
        </p:nvSpPr>
        <p:spPr>
          <a:xfrm>
            <a:off x="1422360" y="1681200"/>
            <a:ext cx="528840" cy="3916440"/>
          </a:xfrm>
          <a:custGeom>
            <a:avLst/>
            <a:gdLst>
              <a:gd name="textAreaLeft" fmla="*/ 338040 w 528840"/>
              <a:gd name="textAreaRight" fmla="*/ 528840 w 528840"/>
              <a:gd name="textAreaTop" fmla="*/ 13680 h 3916440"/>
              <a:gd name="textAreaBottom" fmla="*/ 3902760 h 3916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22"/>
                  <a:pt x="10800" y="243"/>
                </a:cubicBezTo>
                <a:lnTo>
                  <a:pt x="10800" y="10557"/>
                </a:lnTo>
                <a:cubicBezTo>
                  <a:pt x="10800" y="10679"/>
                  <a:pt x="5400" y="10800"/>
                  <a:pt x="0" y="10800"/>
                </a:cubicBezTo>
                <a:cubicBezTo>
                  <a:pt x="5400" y="10800"/>
                  <a:pt x="10800" y="10922"/>
                  <a:pt x="10800" y="11043"/>
                </a:cubicBezTo>
                <a:lnTo>
                  <a:pt x="10800" y="21357"/>
                </a:lnTo>
                <a:cubicBezTo>
                  <a:pt x="10800" y="21479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" name="TextBox 5"/>
          <p:cNvSpPr/>
          <p:nvPr/>
        </p:nvSpPr>
        <p:spPr>
          <a:xfrm>
            <a:off x="163440" y="3429000"/>
            <a:ext cx="13064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seco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" name="Oval Callout 6"/>
          <p:cNvSpPr/>
          <p:nvPr/>
        </p:nvSpPr>
        <p:spPr>
          <a:xfrm>
            <a:off x="7230960" y="189000"/>
            <a:ext cx="1528920" cy="846000"/>
          </a:xfrm>
          <a:prstGeom prst="wedgeEllipseCallout">
            <a:avLst>
              <a:gd name="adj1" fmla="val 20800"/>
              <a:gd name="adj2" fmla="val 72638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3of3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Rectangle 4"/>
          <p:cNvSpPr/>
          <p:nvPr/>
        </p:nvSpPr>
        <p:spPr>
          <a:xfrm>
            <a:off x="1720080" y="987480"/>
            <a:ext cx="731304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 for Addr: 0X00000100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604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EFFFFEFF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  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04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04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611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ooo_2_phase.cpp: 2611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" name="TextBox 3"/>
          <p:cNvSpPr/>
          <p:nvPr/>
        </p:nvSpPr>
        <p:spPr>
          <a:xfrm>
            <a:off x="0" y="1528920"/>
            <a:ext cx="1422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  <a:ea typeface="Tahoma"/>
              </a:rPr>
              <a:t>Approximately line #3043 of log file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27" name="Straight Arrow Connector 5"/>
          <p:cNvCxnSpPr>
            <a:stCxn id="126" idx="3"/>
          </p:cNvCxnSpPr>
          <p:nvPr/>
        </p:nvCxnSpPr>
        <p:spPr>
          <a:xfrm flipV="1">
            <a:off x="1422360" y="1234800"/>
            <a:ext cx="435600" cy="52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8" name="Left Brace 6"/>
          <p:cNvSpPr/>
          <p:nvPr/>
        </p:nvSpPr>
        <p:spPr>
          <a:xfrm>
            <a:off x="1433520" y="928800"/>
            <a:ext cx="530280" cy="4103640"/>
          </a:xfrm>
          <a:custGeom>
            <a:avLst/>
            <a:gdLst>
              <a:gd name="textAreaLeft" fmla="*/ 338760 w 530280"/>
              <a:gd name="textAreaRight" fmla="*/ 530640 w 530280"/>
              <a:gd name="textAreaTop" fmla="*/ 13680 h 4103640"/>
              <a:gd name="textAreaBottom" fmla="*/ 4089960 h 410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6"/>
                  <a:pt x="10800" y="232"/>
                </a:cubicBezTo>
                <a:lnTo>
                  <a:pt x="10800" y="10568"/>
                </a:lnTo>
                <a:cubicBezTo>
                  <a:pt x="10800" y="10684"/>
                  <a:pt x="5400" y="10800"/>
                  <a:pt x="0" y="10800"/>
                </a:cubicBezTo>
                <a:cubicBezTo>
                  <a:pt x="5400" y="10800"/>
                  <a:pt x="10800" y="10916"/>
                  <a:pt x="10800" y="11032"/>
                </a:cubicBezTo>
                <a:lnTo>
                  <a:pt x="10800" y="21368"/>
                </a:lnTo>
                <a:cubicBezTo>
                  <a:pt x="10800" y="21484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" name="TextBox 9"/>
          <p:cNvSpPr/>
          <p:nvPr/>
        </p:nvSpPr>
        <p:spPr>
          <a:xfrm>
            <a:off x="246240" y="2610000"/>
            <a:ext cx="130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RESP for fir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Transaction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 Bold"/>
                <a:ea typeface="Tahoma Bold"/>
              </a:rPr>
              <a:t>(out of order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" name="Oval Callout 10"/>
          <p:cNvSpPr/>
          <p:nvPr/>
        </p:nvSpPr>
        <p:spPr>
          <a:xfrm>
            <a:off x="7302600" y="189000"/>
            <a:ext cx="1528560" cy="846000"/>
          </a:xfrm>
          <a:prstGeom prst="wedgeEllipseCallout">
            <a:avLst>
              <a:gd name="adj1" fmla="val -26125"/>
              <a:gd name="adj2" fmla="val 86527"/>
            </a:avLst>
          </a:prstGeom>
          <a:solidFill>
            <a:srgbClr val="85ffe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uter has “modified” address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3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3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3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3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3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4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4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4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4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4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5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5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5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5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5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9" name="AutoShape 156"/>
          <p:cNvCxnSpPr>
            <a:stCxn id="160" idx="3"/>
            <a:endCxn id="16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62" name="AutoShape 157"/>
          <p:cNvCxnSpPr>
            <a:stCxn id="163" idx="2"/>
            <a:endCxn id="16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5" name="AutoShape 158"/>
          <p:cNvCxnSpPr>
            <a:stCxn id="163" idx="0"/>
            <a:endCxn id="16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7" name="AutoShape 159"/>
          <p:cNvCxnSpPr>
            <a:stCxn id="16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6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6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7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6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6" name="AutoShape 173"/>
          <p:cNvCxnSpPr>
            <a:stCxn id="175" idx="2"/>
            <a:endCxn id="17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77" name="AutoShape 174"/>
          <p:cNvCxnSpPr>
            <a:stCxn id="175" idx="0"/>
            <a:endCxn id="17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7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21:55:15Z</dcterms:created>
  <dc:creator>Anna Keist, Bill Bunton, Charles Wilson</dc:creator>
  <dc:description/>
  <cp:keywords/>
  <dc:language>en-US</dc:language>
  <cp:lastModifiedBy>Torsten Maehne</cp:lastModifiedBy>
  <dcterms:modified xsi:type="dcterms:W3CDTF">2012-04-30T17:09:33Z</dcterms:modified>
  <cp:revision>86</cp:revision>
  <dc:subject/>
  <dc:title>AT Basic System Example</dc:title>
</cp:coreProperties>
</file>