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FD58C912-E6A3-496B-BFB1-EBD86960141A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488C53E-4BD5-456C-8715-290E0A6487F6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6F4D91A0-CC9C-44E8-B8DA-827A6371044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DB2F038C-B31A-4D59-870E-02C68AEF2FC8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C1B93-3E85-4D8B-A2BF-A5E60A018DC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919B59-FE78-49AF-B704-A65A97EAFBC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4F1A2D-D3C8-4ADB-A4C4-C24A944AFF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DA24DF-F523-4B4D-BFCE-A80B48F1A6E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8C4004-3122-4D61-BF5C-A47F920B159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B08453-A781-4612-AFF9-E8A176A6DF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E18631-AF91-492A-9EEA-ADCE5855FB6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F5D81-D50D-41F8-9124-C5F0E0331A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AAB125-37FB-4034-9030-F5B9920ADC5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E8D2BF-A63C-4AA4-9300-4F5F4BC664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619116-FE19-4986-8B4A-96DD8E6273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9296A9-8781-40DF-8002-87AB6F81D5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DE4EC-7F12-4481-B282-288D6D4B4CD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T with Mandatory Extension</a:t>
            </a:r>
            <a:br>
              <a:rPr sz="3000"/>
            </a:b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System Exa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T with Mandatory Extension Examp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of a mandatory extens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85880" y="5562720"/>
            <a:ext cx="425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 with mandatory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533556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3"/>
          <p:cNvSpPr/>
          <p:nvPr/>
        </p:nvSpPr>
        <p:spPr>
          <a:xfrm>
            <a:off x="1536840" y="15652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Left-Right Arrow 13"/>
          <p:cNvSpPr/>
          <p:nvPr/>
        </p:nvSpPr>
        <p:spPr>
          <a:xfrm>
            <a:off x="3614760" y="1995480"/>
            <a:ext cx="1711440" cy="271440"/>
          </a:xfrm>
          <a:prstGeom prst="leftRightArrow">
            <a:avLst>
              <a:gd name="adj1" fmla="val 50000"/>
              <a:gd name="adj2" fmla="val 50148"/>
            </a:avLst>
          </a:prstGeom>
          <a:solidFill>
            <a:srgbClr val="3333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" name="Group 16"/>
          <p:cNvGrpSpPr/>
          <p:nvPr/>
        </p:nvGrpSpPr>
        <p:grpSpPr>
          <a:xfrm>
            <a:off x="2189160" y="4592520"/>
            <a:ext cx="3162240" cy="533520"/>
            <a:chOff x="2189160" y="4592520"/>
            <a:chExt cx="3162240" cy="533520"/>
          </a:xfrm>
        </p:grpSpPr>
        <p:sp>
          <p:nvSpPr>
            <p:cNvPr id="98" name="Rectangle 23"/>
            <p:cNvSpPr/>
            <p:nvPr/>
          </p:nvSpPr>
          <p:spPr>
            <a:xfrm>
              <a:off x="4246560" y="4592520"/>
              <a:ext cx="1104840" cy="533520"/>
            </a:xfrm>
            <a:prstGeom prst="rect">
              <a:avLst/>
            </a:prstGeom>
            <a:solidFill>
              <a:srgbClr val="a5a5e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itiator I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xtensio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9" name="Rectangle 23"/>
            <p:cNvSpPr/>
            <p:nvPr/>
          </p:nvSpPr>
          <p:spPr>
            <a:xfrm>
              <a:off x="2189160" y="4592520"/>
              <a:ext cx="2057400" cy="533520"/>
            </a:xfrm>
            <a:prstGeom prst="rect">
              <a:avLst/>
            </a:prstGeom>
            <a:solidFill>
              <a:srgbClr val="00cc99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Generic Payload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0" name="Rounded Rectangular Callout 17"/>
          <p:cNvSpPr/>
          <p:nvPr/>
        </p:nvSpPr>
        <p:spPr>
          <a:xfrm>
            <a:off x="5415120" y="3144960"/>
            <a:ext cx="2565360" cy="1054080"/>
          </a:xfrm>
          <a:prstGeom prst="wedgeRoundRectCallout">
            <a:avLst>
              <a:gd name="adj1" fmla="val -72310"/>
              <a:gd name="adj2" fmla="val 9382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s extension carries a string containing the initiators ‘ID’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cd examples/tlm/lt_extension_mandatory/build-un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0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examples/tlm/lt_extension_mandatory/build-window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lt_extension_mandatory.sl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lt_extension_mandatory &gt; Debug | Win32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001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Rectangle 1028"/>
          <p:cNvSpPr/>
          <p:nvPr/>
        </p:nvSpPr>
        <p:spPr>
          <a:xfrm>
            <a:off x="493200" y="1125360"/>
            <a:ext cx="7313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275 ns - invalidate_direct_mem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invalidate request - valid reques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2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350 ns - log_sta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reating read transaction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350 ns - nb_transport_fw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ad request - Addr: 0x000000000000000C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initiator_extension_mandatory.cpp: 450 ns - log_en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ceived TLM_OK_RESPONSE, Data: 0x00000003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nfo: lt_target_extension_mandatory.cpp: 450 ns - get_dmi_ptr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Extension present, Data: generic ID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 . .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" name="Rounded Rectangular Callout 3"/>
          <p:cNvSpPr/>
          <p:nvPr/>
        </p:nvSpPr>
        <p:spPr>
          <a:xfrm>
            <a:off x="6943680" y="3749760"/>
            <a:ext cx="1917720" cy="482400"/>
          </a:xfrm>
          <a:prstGeom prst="wedgeRoundRectCallout">
            <a:avLst>
              <a:gd name="adj1" fmla="val -184120"/>
              <a:gd name="adj2" fmla="val -102074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or ID: 10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9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10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1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12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13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17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18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19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20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2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23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24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25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26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27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28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29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30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31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32" name="Rectangle 2"/>
          <p:cNvSpPr/>
          <p:nvPr/>
        </p:nvSpPr>
        <p:spPr>
          <a:xfrm>
            <a:off x="1216080" y="1192320"/>
            <a:ext cx="5087880" cy="37972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1289160" y="132084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4" name="AutoShape 6"/>
          <p:cNvCxnSpPr/>
          <p:nvPr/>
        </p:nvCxnSpPr>
        <p:spPr>
          <a:xfrm flipH="1">
            <a:off x="6549840" y="3084120"/>
            <a:ext cx="176256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35" name="Group 59"/>
          <p:cNvGrpSpPr/>
          <p:nvPr/>
        </p:nvGrpSpPr>
        <p:grpSpPr>
          <a:xfrm>
            <a:off x="6308640" y="2932200"/>
            <a:ext cx="304560" cy="304200"/>
            <a:chOff x="6308640" y="2932200"/>
            <a:chExt cx="304560" cy="304200"/>
          </a:xfrm>
        </p:grpSpPr>
        <p:sp>
          <p:nvSpPr>
            <p:cNvPr id="136" name="Rectangle 60"/>
            <p:cNvSpPr/>
            <p:nvPr/>
          </p:nvSpPr>
          <p:spPr>
            <a:xfrm flipH="1">
              <a:off x="6308640" y="293220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7" name="Freeform 61"/>
            <p:cNvSpPr/>
            <p:nvPr/>
          </p:nvSpPr>
          <p:spPr>
            <a:xfrm flipH="1">
              <a:off x="6308640" y="293220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38" name="AutoShape 78"/>
          <p:cNvSpPr/>
          <p:nvPr/>
        </p:nvSpPr>
        <p:spPr>
          <a:xfrm>
            <a:off x="291096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9" name="AutoShape 80"/>
          <p:cNvCxnSpPr>
            <a:stCxn id="138" idx="3"/>
            <a:endCxn id="132" idx="3"/>
          </p:cNvCxnSpPr>
          <p:nvPr/>
        </p:nvCxnSpPr>
        <p:spPr>
          <a:xfrm flipV="1">
            <a:off x="4554360" y="3090240"/>
            <a:ext cx="1750320" cy="198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0" name="Text Box 105"/>
          <p:cNvSpPr/>
          <p:nvPr/>
        </p:nvSpPr>
        <p:spPr>
          <a:xfrm>
            <a:off x="6781320" y="201132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Line 106"/>
          <p:cNvSpPr/>
          <p:nvPr/>
        </p:nvSpPr>
        <p:spPr>
          <a:xfrm flipH="1">
            <a:off x="5153040" y="2176560"/>
            <a:ext cx="1650960" cy="790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Text Box 113"/>
          <p:cNvSpPr/>
          <p:nvPr/>
        </p:nvSpPr>
        <p:spPr>
          <a:xfrm>
            <a:off x="6427800" y="2286000"/>
            <a:ext cx="19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Line 114"/>
          <p:cNvSpPr/>
          <p:nvPr/>
        </p:nvSpPr>
        <p:spPr>
          <a:xfrm flipH="1">
            <a:off x="6648120" y="2565360"/>
            <a:ext cx="725400" cy="336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ounded Rectangular Callout 53"/>
          <p:cNvSpPr/>
          <p:nvPr/>
        </p:nvSpPr>
        <p:spPr>
          <a:xfrm>
            <a:off x="6351480" y="633240"/>
            <a:ext cx="2108160" cy="749520"/>
          </a:xfrm>
          <a:prstGeom prst="wedgeRoundRectCallout">
            <a:avLst>
              <a:gd name="adj1" fmla="val -154032"/>
              <a:gd name="adj2" fmla="val 239574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" name="Rounded Rectangular Callout 54"/>
          <p:cNvSpPr/>
          <p:nvPr/>
        </p:nvSpPr>
        <p:spPr>
          <a:xfrm>
            <a:off x="6453360" y="3852720"/>
            <a:ext cx="2625480" cy="1109880"/>
          </a:xfrm>
          <a:prstGeom prst="wedgeRoundRectCallout">
            <a:avLst>
              <a:gd name="adj1" fmla="val -46305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48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49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0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51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52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4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5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56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57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58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59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61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2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63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4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65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6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67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68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9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70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1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2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73" name="Text Box 29"/>
          <p:cNvSpPr/>
          <p:nvPr/>
        </p:nvSpPr>
        <p:spPr>
          <a:xfrm>
            <a:off x="3567240" y="1311120"/>
            <a:ext cx="4160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_extension_mandator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74" name="AutoShape 30"/>
          <p:cNvCxnSpPr>
            <a:stCxn id="175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176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7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178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5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79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0" name="AutoShape 40"/>
          <p:cNvCxnSpPr>
            <a:stCxn id="172" idx="1"/>
            <a:endCxn id="176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81" name="AutoShape 41"/>
          <p:cNvCxnSpPr>
            <a:stCxn id="176" idx="3"/>
            <a:endCxn id="179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82" name="Text Box 43"/>
          <p:cNvSpPr/>
          <p:nvPr/>
        </p:nvSpPr>
        <p:spPr>
          <a:xfrm>
            <a:off x="855720" y="22683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3" name="Line 44"/>
          <p:cNvSpPr/>
          <p:nvPr/>
        </p:nvSpPr>
        <p:spPr>
          <a:xfrm>
            <a:off x="2670120" y="2643120"/>
            <a:ext cx="530280" cy="311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Rounded Rectangular Callout 39"/>
          <p:cNvSpPr/>
          <p:nvPr/>
        </p:nvSpPr>
        <p:spPr>
          <a:xfrm>
            <a:off x="743040" y="1052640"/>
            <a:ext cx="2031840" cy="761760"/>
          </a:xfrm>
          <a:prstGeom prst="wedgeRoundRectCallout">
            <a:avLst>
              <a:gd name="adj1" fmla="val 134375"/>
              <a:gd name="adj2" fmla="val 199597"/>
              <a:gd name="adj3" fmla="val 16667"/>
            </a:avLst>
          </a:prstGeom>
          <a:solidFill>
            <a:srgbClr val="a5a5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nsion data extracted her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5" name="Rounded Rectangular Callout 40"/>
          <p:cNvSpPr/>
          <p:nvPr/>
        </p:nvSpPr>
        <p:spPr>
          <a:xfrm>
            <a:off x="298440" y="3892680"/>
            <a:ext cx="2625840" cy="1109520"/>
          </a:xfrm>
          <a:prstGeom prst="wedgeRoundRectCallout">
            <a:avLst>
              <a:gd name="adj1" fmla="val 59800"/>
              <a:gd name="adj2" fmla="val -102768"/>
              <a:gd name="adj3" fmla="val 16667"/>
            </a:avLst>
          </a:pr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cket is bound against the extension making it mandator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7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8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9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0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1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2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5T21:07:08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27Z</dcterms:modified>
  <cp:revision>88</cp:revision>
  <dc:subject/>
  <dc:title>AT Basic System Example</dc:title>
</cp:coreProperties>
</file>