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ADD80845-2B10-49D4-BA3F-A6A795F781C5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8A4EEE-1688-4BD1-B496-417E086B3E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F4834A-0E0E-438A-8E4D-48FE415F36A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4C5827-CB0E-4B31-9F2C-AFF0C6E2BE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854948-4EA4-4346-9E3A-E899A52E9A6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84FDB9-49ED-46AC-886A-6A1DFA8E90F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002CA-1D69-43E7-AE2B-A8C91CFFC2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E64D7-F0CF-4E95-B799-CC704D9A474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00AA94-4573-49F1-8018-E98CA8CFFD4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1C61F-838B-4412-99D1-E35E8672FB6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B8703-5ACC-4A88-BE94-2844A503A7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419A8B-331B-4A3E-AC4F-9F6AE9A59C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8A1C62-D7DB-4447-8BF1-AA5EC4D89B7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28A20-2405-4F3B-8E40-1C6A850C041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349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68904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97488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Arial"/>
              <a:buChar char="-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262160" algn="ctr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262160">
              <a:spcBef>
                <a:spcPts val="499"/>
              </a:spcBef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23880" y="3428640"/>
            <a:ext cx="731520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he TLM 2.0 Mixed Endianness Exampl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mes Aldi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exas Instruments F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nuary 2008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distorted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3:  write 4 consecutive bytes and read back as an integ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4030201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rites bytes 04, 03, 02, 01 to addresses 0, 1, 2, 3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8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initiators will read the integer 01020304 at address 0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999920" y="1762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252480" y="1762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957920" y="1762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835400" y="1419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585120" y="1434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5016240" y="1434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100400" y="2197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7999920" y="4200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252480" y="420048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1 02 03 0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957920" y="4200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0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7835400" y="385776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6585120" y="387360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016240" y="387360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100400" y="4635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014800" y="2527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lower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091120" y="5029200"/>
            <a:ext cx="36576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data bus word are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TLM Model of the Syste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TLM model correctly models the above data and address distortions and all other possible one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n particular it gets hairy for non-address-aligned transa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address, data array and byte enable array in the transaction payload object are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to the internal opcode of the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matches the host CPU endiann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odified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7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if the initiator endianness is different from the host CPU’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internal data storage of the memory mode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s not visible (we are not using DMI in this example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could be a simple memcpy() between the data array in the transaction payload object and an array of unsigned char in the memory model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refore we can say that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the TLM 2.0 interfaces are always “host-endian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odel is functionally identical on BE and LE host CPU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but internal structure (length, address, byte enables) of transaction payload objects will diffe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odification of “lt”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447920"/>
            <a:ext cx="89154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emonstrates the use of TLM endianness-conversion func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llustrates data and address modification effects of BIG- and LITTLE-endian initiators sharing a memor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llows interactive experiment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actively execute “instructions” alternately on two initiato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ne big- and one little-endian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data from BE and view it from LE or vice-vers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451"/>
              </a:spcBef>
              <a:buClr>
                <a:srgbClr val="000099"/>
              </a:buClr>
              <a:buSzPct val="110000"/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tore 32-bit data and view as 8-bit or 16-bit, etc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1526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Platform Structur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581280" y="1371600"/>
            <a:ext cx="304560" cy="304560"/>
            <a:chOff x="3581280" y="1371600"/>
            <a:chExt cx="304560" cy="304560"/>
          </a:xfrm>
        </p:grpSpPr>
        <p:sp>
          <p:nvSpPr>
            <p:cNvPr id="93" name=""/>
            <p:cNvSpPr/>
            <p:nvPr/>
          </p:nvSpPr>
          <p:spPr>
            <a:xfrm>
              <a:off x="3581280" y="1371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81280" y="1371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152280" y="5715000"/>
            <a:ext cx="2660760" cy="457200"/>
            <a:chOff x="152280" y="5715000"/>
            <a:chExt cx="2660760" cy="457200"/>
          </a:xfrm>
        </p:grpSpPr>
        <p:sp>
          <p:nvSpPr>
            <p:cNvPr id="96" name=""/>
            <p:cNvSpPr/>
            <p:nvPr/>
          </p:nvSpPr>
          <p:spPr>
            <a:xfrm>
              <a:off x="498600" y="57913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7" name=""/>
            <p:cNvGrpSpPr/>
            <p:nvPr/>
          </p:nvGrpSpPr>
          <p:grpSpPr>
            <a:xfrm>
              <a:off x="152280" y="5715000"/>
              <a:ext cx="304560" cy="457200"/>
              <a:chOff x="152280" y="5715000"/>
              <a:chExt cx="304560" cy="457200"/>
            </a:xfrm>
          </p:grpSpPr>
          <p:grpSp>
            <p:nvGrpSpPr>
              <p:cNvPr id="98" name=""/>
              <p:cNvGrpSpPr/>
              <p:nvPr/>
            </p:nvGrpSpPr>
            <p:grpSpPr>
              <a:xfrm>
                <a:off x="152280" y="5791320"/>
                <a:ext cx="304560" cy="304200"/>
                <a:chOff x="152280" y="5791320"/>
                <a:chExt cx="304560" cy="304200"/>
              </a:xfrm>
            </p:grpSpPr>
            <p:sp>
              <p:nvSpPr>
                <p:cNvPr id="99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0" name=""/>
                <p:cNvSpPr/>
                <p:nvPr/>
              </p:nvSpPr>
              <p:spPr>
                <a:xfrm>
                  <a:off x="15228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1" name=""/>
              <p:cNvSpPr/>
              <p:nvPr/>
            </p:nvSpPr>
            <p:spPr>
              <a:xfrm>
                <a:off x="15228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" name=""/>
          <p:cNvGrpSpPr/>
          <p:nvPr/>
        </p:nvGrpSpPr>
        <p:grpSpPr>
          <a:xfrm>
            <a:off x="3048120" y="5715000"/>
            <a:ext cx="2356920" cy="457200"/>
            <a:chOff x="3048120" y="5715000"/>
            <a:chExt cx="2356920" cy="457200"/>
          </a:xfrm>
        </p:grpSpPr>
        <p:sp>
          <p:nvSpPr>
            <p:cNvPr id="103" name=""/>
            <p:cNvSpPr/>
            <p:nvPr/>
          </p:nvSpPr>
          <p:spPr>
            <a:xfrm>
              <a:off x="3410640" y="57913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4" name=""/>
            <p:cNvGrpSpPr/>
            <p:nvPr/>
          </p:nvGrpSpPr>
          <p:grpSpPr>
            <a:xfrm>
              <a:off x="3048120" y="5715000"/>
              <a:ext cx="304920" cy="457200"/>
              <a:chOff x="3048120" y="5715000"/>
              <a:chExt cx="304920" cy="457200"/>
            </a:xfrm>
          </p:grpSpPr>
          <p:grpSp>
            <p:nvGrpSpPr>
              <p:cNvPr id="105" name=""/>
              <p:cNvGrpSpPr/>
              <p:nvPr/>
            </p:nvGrpSpPr>
            <p:grpSpPr>
              <a:xfrm>
                <a:off x="3048120" y="5791320"/>
                <a:ext cx="304560" cy="304200"/>
                <a:chOff x="3048120" y="5791320"/>
                <a:chExt cx="304560" cy="3042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048120" y="5791320"/>
                  <a:ext cx="304560" cy="304200"/>
                </a:xfrm>
                <a:custGeom>
                  <a:avLst/>
                  <a:gdLst/>
                  <a:ahLst/>
                  <a:rect l="l" t="t" r="r" b="b"/>
                  <a:pathLst>
                    <a:path w="96" h="111">
                      <a:moveTo>
                        <a:pt x="0" y="0"/>
                      </a:moveTo>
                      <a:lnTo>
                        <a:pt x="96" y="56"/>
                      </a:lnTo>
                      <a:lnTo>
                        <a:pt x="0" y="111"/>
                      </a:lnTo>
                    </a:path>
                  </a:pathLst>
                </a:cu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8" name=""/>
              <p:cNvSpPr/>
              <p:nvPr/>
            </p:nvSpPr>
            <p:spPr>
              <a:xfrm>
                <a:off x="3353040" y="57150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"/>
          <p:cNvSpPr/>
          <p:nvPr/>
        </p:nvSpPr>
        <p:spPr>
          <a:xfrm>
            <a:off x="3352680" y="2743200"/>
            <a:ext cx="2590920" cy="9144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62120" y="4114800"/>
            <a:ext cx="25905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1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1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867280" y="990720"/>
            <a:ext cx="28195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 Generator 1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114800" y="2438280"/>
            <a:ext cx="304560" cy="304560"/>
            <a:chOff x="4114800" y="2438280"/>
            <a:chExt cx="304560" cy="304560"/>
          </a:xfrm>
        </p:grpSpPr>
        <p:sp>
          <p:nvSpPr>
            <p:cNvPr id="113" name=""/>
            <p:cNvSpPr/>
            <p:nvPr/>
          </p:nvSpPr>
          <p:spPr>
            <a:xfrm rot="5400000">
              <a:off x="411480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rot="5400000">
              <a:off x="411480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3352680" y="4572000"/>
            <a:ext cx="304560" cy="304560"/>
            <a:chOff x="3352680" y="4572000"/>
            <a:chExt cx="304560" cy="304560"/>
          </a:xfrm>
        </p:grpSpPr>
        <p:sp>
          <p:nvSpPr>
            <p:cNvPr id="116" name=""/>
            <p:cNvSpPr/>
            <p:nvPr/>
          </p:nvSpPr>
          <p:spPr>
            <a:xfrm rot="10800000">
              <a:off x="3352680" y="45720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0800000">
              <a:off x="3352680" y="45720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8" name=""/>
          <p:cNvGrpSpPr/>
          <p:nvPr/>
        </p:nvGrpSpPr>
        <p:grpSpPr>
          <a:xfrm>
            <a:off x="4952880" y="2438280"/>
            <a:ext cx="304560" cy="304560"/>
            <a:chOff x="4952880" y="2438280"/>
            <a:chExt cx="304560" cy="304560"/>
          </a:xfrm>
        </p:grpSpPr>
        <p:sp>
          <p:nvSpPr>
            <p:cNvPr id="119" name=""/>
            <p:cNvSpPr/>
            <p:nvPr/>
          </p:nvSpPr>
          <p:spPr>
            <a:xfrm rot="5400000">
              <a:off x="4952880" y="24382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rot="5400000">
              <a:off x="4952880" y="243828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5563080" y="1371600"/>
            <a:ext cx="304200" cy="304560"/>
            <a:chOff x="5563080" y="1371600"/>
            <a:chExt cx="304200" cy="304560"/>
          </a:xfrm>
        </p:grpSpPr>
        <p:sp>
          <p:nvSpPr>
            <p:cNvPr id="122" name=""/>
            <p:cNvSpPr/>
            <p:nvPr/>
          </p:nvSpPr>
          <p:spPr>
            <a:xfrm rot="10800000">
              <a:off x="5563080" y="13716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0800000">
              <a:off x="5563080" y="13716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"/>
          <p:cNvSpPr/>
          <p:nvPr/>
        </p:nvSpPr>
        <p:spPr>
          <a:xfrm>
            <a:off x="762120" y="990720"/>
            <a:ext cx="281916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 Generator 10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" name=""/>
          <p:cNvGrpSpPr/>
          <p:nvPr/>
        </p:nvGrpSpPr>
        <p:grpSpPr>
          <a:xfrm>
            <a:off x="4952880" y="3657600"/>
            <a:ext cx="304560" cy="304560"/>
            <a:chOff x="4952880" y="3657600"/>
            <a:chExt cx="304560" cy="304560"/>
          </a:xfrm>
        </p:grpSpPr>
        <p:sp>
          <p:nvSpPr>
            <p:cNvPr id="126" name=""/>
            <p:cNvSpPr/>
            <p:nvPr/>
          </p:nvSpPr>
          <p:spPr>
            <a:xfrm rot="5400000">
              <a:off x="495288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rot="5400000">
              <a:off x="495288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4114800" y="3657600"/>
            <a:ext cx="304560" cy="304560"/>
            <a:chOff x="4114800" y="3657600"/>
            <a:chExt cx="304560" cy="304560"/>
          </a:xfrm>
        </p:grpSpPr>
        <p:sp>
          <p:nvSpPr>
            <p:cNvPr id="129" name=""/>
            <p:cNvSpPr/>
            <p:nvPr/>
          </p:nvSpPr>
          <p:spPr>
            <a:xfrm rot="5400000">
              <a:off x="4114800" y="36576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5400000">
              <a:off x="4114800" y="3657600"/>
              <a:ext cx="30456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1" name=""/>
          <p:cNvSpPr/>
          <p:nvPr/>
        </p:nvSpPr>
        <p:spPr>
          <a:xfrm>
            <a:off x="6095880" y="4114800"/>
            <a:ext cx="259092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mory 2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t_target_4_phase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5791320" y="4572000"/>
            <a:ext cx="304200" cy="304560"/>
            <a:chOff x="5791320" y="4572000"/>
            <a:chExt cx="304200" cy="304560"/>
          </a:xfrm>
        </p:grpSpPr>
        <p:sp>
          <p:nvSpPr>
            <p:cNvPr id="133" name=""/>
            <p:cNvSpPr/>
            <p:nvPr/>
          </p:nvSpPr>
          <p:spPr>
            <a:xfrm>
              <a:off x="5791320" y="457200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791320" y="4572000"/>
              <a:ext cx="304200" cy="304560"/>
            </a:xfrm>
            <a:custGeom>
              <a:avLst/>
              <a:gdLst/>
              <a:ahLst/>
              <a:rect l="l" t="t" r="r" b="b"/>
              <a:pathLst>
                <a:path w="96" h="111">
                  <a:moveTo>
                    <a:pt x="0" y="0"/>
                  </a:moveTo>
                  <a:lnTo>
                    <a:pt x="96" y="56"/>
                  </a:lnTo>
                  <a:lnTo>
                    <a:pt x="0" y="111"/>
                  </a:lnTo>
                </a:path>
              </a:pathLst>
            </a:cu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135" name=""/>
          <p:cNvCxnSpPr>
            <a:stCxn id="127" idx="0"/>
            <a:endCxn id="133" idx="1"/>
          </p:cNvCxnSpPr>
          <p:nvPr/>
        </p:nvCxnSpPr>
        <p:spPr>
          <a:xfrm flipH="1" rot="16200000">
            <a:off x="5065560" y="4008960"/>
            <a:ext cx="753120" cy="6786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6" name=""/>
          <p:cNvCxnSpPr>
            <a:stCxn id="130" idx="0"/>
            <a:endCxn id="116" idx="1"/>
          </p:cNvCxnSpPr>
          <p:nvPr/>
        </p:nvCxnSpPr>
        <p:spPr>
          <a:xfrm rot="5400000">
            <a:off x="3589200" y="4048560"/>
            <a:ext cx="753120" cy="5994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7" name=""/>
          <p:cNvCxnSpPr>
            <a:stCxn id="94" idx="0"/>
            <a:endCxn id="113" idx="1"/>
          </p:cNvCxnSpPr>
          <p:nvPr/>
        </p:nvCxnSpPr>
        <p:spPr>
          <a:xfrm>
            <a:off x="3895560" y="1525320"/>
            <a:ext cx="372240" cy="90396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cxnSp>
        <p:nvCxnSpPr>
          <p:cNvPr id="138" name=""/>
          <p:cNvCxnSpPr>
            <a:stCxn id="123" idx="0"/>
            <a:endCxn id="119" idx="1"/>
          </p:cNvCxnSpPr>
          <p:nvPr/>
        </p:nvCxnSpPr>
        <p:spPr>
          <a:xfrm flipV="1" rot="10800000">
            <a:off x="5104800" y="1522080"/>
            <a:ext cx="448200" cy="907200"/>
          </a:xfrm>
          <a:prstGeom prst="bentConnector2">
            <a:avLst/>
          </a:prstGeom>
          <a:ln w="57240">
            <a:solidFill>
              <a:srgbClr val="000000"/>
            </a:solidFill>
            <a:miter/>
          </a:ln>
        </p:spPr>
      </p:cxnSp>
      <p:grpSp>
        <p:nvGrpSpPr>
          <p:cNvPr id="139" name=""/>
          <p:cNvGrpSpPr/>
          <p:nvPr/>
        </p:nvGrpSpPr>
        <p:grpSpPr>
          <a:xfrm>
            <a:off x="4876920" y="1872720"/>
            <a:ext cx="907200" cy="489960"/>
            <a:chOff x="4876920" y="1872720"/>
            <a:chExt cx="907200" cy="489960"/>
          </a:xfrm>
        </p:grpSpPr>
        <p:sp>
          <p:nvSpPr>
            <p:cNvPr id="140" name=""/>
            <p:cNvSpPr/>
            <p:nvPr/>
          </p:nvSpPr>
          <p:spPr>
            <a:xfrm flipV="1">
              <a:off x="4876920" y="18727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106600" y="2025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010040" y="1676160"/>
            <a:ext cx="907920" cy="489960"/>
            <a:chOff x="4010040" y="1676160"/>
            <a:chExt cx="907920" cy="489960"/>
          </a:xfrm>
        </p:grpSpPr>
        <p:sp>
          <p:nvSpPr>
            <p:cNvPr id="143" name=""/>
            <p:cNvSpPr/>
            <p:nvPr/>
          </p:nvSpPr>
          <p:spPr>
            <a:xfrm flipV="1">
              <a:off x="4010040" y="167616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240440" y="182880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038480" y="4266720"/>
            <a:ext cx="907920" cy="489960"/>
            <a:chOff x="4038480" y="4266720"/>
            <a:chExt cx="907920" cy="489960"/>
          </a:xfrm>
        </p:grpSpPr>
        <p:sp>
          <p:nvSpPr>
            <p:cNvPr id="146" name=""/>
            <p:cNvSpPr/>
            <p:nvPr/>
          </p:nvSpPr>
          <p:spPr>
            <a:xfrm flipV="1">
              <a:off x="4038480" y="426672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268880" y="44193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876920" y="4038120"/>
            <a:ext cx="907200" cy="489960"/>
            <a:chOff x="4876920" y="4038120"/>
            <a:chExt cx="907200" cy="489960"/>
          </a:xfrm>
        </p:grpSpPr>
        <p:sp>
          <p:nvSpPr>
            <p:cNvPr id="149" name=""/>
            <p:cNvSpPr/>
            <p:nvPr/>
          </p:nvSpPr>
          <p:spPr>
            <a:xfrm flipV="1">
              <a:off x="4876920" y="4038120"/>
              <a:ext cx="5331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5106600" y="4190760"/>
              <a:ext cx="677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99"/>
                  </a:solidFill>
                  <a:latin typeface="Arial"/>
                </a:rPr>
                <a:t>32 bit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_mixed_endian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 (uses default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./lt.exe (interactive input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mixed_endian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Debugging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nfigurati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Click in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ommand Argument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box and type i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 ..\results\input.txt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de-CH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omponent details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32-bit Big-endian initiator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instructions to execute (loads and store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tdin provides data for stor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ata from loads written to stdou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Generator 10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Identical but Little-endian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struction Set for both Generator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8, l16, l32 (load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8, s16, s32 (store byte, halfword or word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 (switch control to other generator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q (quit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xamples/tlm/lt_mixed_endian/results/input.tx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for example instruction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8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us and Memory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xactly as in lt exampl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8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ome kind of 32-bit routing and memory system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oth memories are simple arrays of 4-byte word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is aware of the endianness of the transaction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Neither the memories nor the interconnect does any data modification: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the initiators put on the bus goes unchanged to the memory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Memories are endianness-neutral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provide a consistent memory image to BE and to LE initiator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hat I write, I read back the same”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here are no attributes on the hardware bus except those shown opposite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724280" y="3657600"/>
            <a:ext cx="4191120" cy="1600200"/>
          </a:xfrm>
          <a:prstGeom prst="rect">
            <a:avLst/>
          </a:prstGeom>
          <a:solidFill>
            <a:srgbClr val="ff99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32-bit 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Compon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Arial"/>
              </a:rPr>
              <a:t>1024 Words / 4 kBy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"/>
          <p:cNvGrpSpPr/>
          <p:nvPr/>
        </p:nvGrpSpPr>
        <p:grpSpPr>
          <a:xfrm>
            <a:off x="4498560" y="1752480"/>
            <a:ext cx="991440" cy="1905120"/>
            <a:chOff x="4498560" y="1752480"/>
            <a:chExt cx="991440" cy="1905120"/>
          </a:xfrm>
        </p:grpSpPr>
        <p:sp>
          <p:nvSpPr>
            <p:cNvPr id="161" name=""/>
            <p:cNvSpPr/>
            <p:nvPr/>
          </p:nvSpPr>
          <p:spPr>
            <a:xfrm>
              <a:off x="502920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V="1">
              <a:off x="487692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498560" y="1752480"/>
              <a:ext cx="991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10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addres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5292360" y="2178000"/>
            <a:ext cx="724680" cy="1479600"/>
            <a:chOff x="5292360" y="2178000"/>
            <a:chExt cx="724680" cy="1479600"/>
          </a:xfrm>
        </p:grpSpPr>
        <p:sp>
          <p:nvSpPr>
            <p:cNvPr id="165" name=""/>
            <p:cNvSpPr/>
            <p:nvPr/>
          </p:nvSpPr>
          <p:spPr>
            <a:xfrm>
              <a:off x="5664240" y="2895480"/>
              <a:ext cx="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292360" y="2178000"/>
              <a:ext cx="724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w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7" name=""/>
          <p:cNvGrpSpPr/>
          <p:nvPr/>
        </p:nvGrpSpPr>
        <p:grpSpPr>
          <a:xfrm>
            <a:off x="7285680" y="1752480"/>
            <a:ext cx="865080" cy="1905120"/>
            <a:chOff x="7285680" y="1752480"/>
            <a:chExt cx="865080" cy="1905120"/>
          </a:xfrm>
        </p:grpSpPr>
        <p:sp>
          <p:nvSpPr>
            <p:cNvPr id="168" name=""/>
            <p:cNvSpPr/>
            <p:nvPr/>
          </p:nvSpPr>
          <p:spPr>
            <a:xfrm>
              <a:off x="781668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V="1">
              <a:off x="7664400" y="2742840"/>
              <a:ext cx="30420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7285680" y="1752480"/>
              <a:ext cx="8650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8136360" y="1752480"/>
            <a:ext cx="1005120" cy="1905120"/>
            <a:chOff x="8136360" y="1752480"/>
            <a:chExt cx="1005120" cy="1905120"/>
          </a:xfrm>
        </p:grpSpPr>
        <p:sp>
          <p:nvSpPr>
            <p:cNvPr id="172" name=""/>
            <p:cNvSpPr/>
            <p:nvPr/>
          </p:nvSpPr>
          <p:spPr>
            <a:xfrm>
              <a:off x="86677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head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85154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8136360" y="1752480"/>
              <a:ext cx="10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32-bi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data out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5952240" y="2178000"/>
            <a:ext cx="674640" cy="1479600"/>
            <a:chOff x="5952240" y="2178000"/>
            <a:chExt cx="674640" cy="1479600"/>
          </a:xfrm>
        </p:grpSpPr>
        <p:sp>
          <p:nvSpPr>
            <p:cNvPr id="176" name=""/>
            <p:cNvSpPr/>
            <p:nvPr/>
          </p:nvSpPr>
          <p:spPr>
            <a:xfrm flipH="1">
              <a:off x="6267240" y="2895480"/>
              <a:ext cx="12600" cy="762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52240" y="2178000"/>
              <a:ext cx="674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n_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6193440" y="1752480"/>
            <a:ext cx="1119600" cy="1905120"/>
            <a:chOff x="6193440" y="1752480"/>
            <a:chExt cx="1119600" cy="1905120"/>
          </a:xfrm>
        </p:grpSpPr>
        <p:sp>
          <p:nvSpPr>
            <p:cNvPr id="179" name=""/>
            <p:cNvSpPr/>
            <p:nvPr/>
          </p:nvSpPr>
          <p:spPr>
            <a:xfrm>
              <a:off x="6851520" y="2438280"/>
              <a:ext cx="0" cy="1219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V="1">
              <a:off x="6699240" y="27428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193440" y="1752480"/>
              <a:ext cx="111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4-bit by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99"/>
                  </a:solidFill>
                  <a:latin typeface="Arial"/>
                </a:rPr>
                <a:t>enab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ample 1:  single byte acces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E initiator writes byte A5 to address 66 = 64 + 2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51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LE initiator will find it at address 65 = 64 + 1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7938000" y="12574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189480" y="12574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896000" y="12574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773480" y="9144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523200" y="93024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954320" y="9302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4038480" y="16923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938000" y="422928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 1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89480" y="4229280"/>
            <a:ext cx="146988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xx xx A5 x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896000" y="422928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773480" y="388620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523920" y="390204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4954320" y="390204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038480" y="466416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952880" y="2022480"/>
            <a:ext cx="365760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66/4 = 16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Fractional part of the address (2) used inside initiator to select a byte lane according to </a:t>
            </a: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(more significant bits are at lower addresse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029200" y="5054760"/>
            <a:ext cx="365760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.  To get the same data, fractional part of the address is 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he System Being Modelled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674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the other writes, I may read back at a different address”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ame effect for aligned 16-bit or 32-bit data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ut no address change for 32-bit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901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xample 2:  32-bit integer access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E initiator writes 32-bit integer 04030201 to address 256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00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E initiator will find the same data at the same addres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e opposite for hardware bus signal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938000" y="110484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6190560" y="110484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96000" y="110484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773480" y="762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523200" y="777960"/>
            <a:ext cx="790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954320" y="777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038480" y="153972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938000" y="4048200"/>
            <a:ext cx="957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1 1 1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90560" y="4048200"/>
            <a:ext cx="152496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4 03 02 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896000" y="4048200"/>
            <a:ext cx="1029600" cy="398880"/>
          </a:xfrm>
          <a:prstGeom prst="rect">
            <a:avLst/>
          </a:prstGeom>
          <a:solidFill>
            <a:srgbClr val="ff99cc"/>
          </a:solidFill>
          <a:ln w="381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99"/>
                </a:solidFill>
                <a:latin typeface="Arial"/>
              </a:rPr>
              <a:t>0 00 4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773480" y="3705120"/>
            <a:ext cx="12308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yte en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523920" y="3720960"/>
            <a:ext cx="913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data ou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954320" y="3720960"/>
            <a:ext cx="90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4038480" y="4483080"/>
            <a:ext cx="48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bit index:  8    4    0         24  16   8    0         3         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4952880" y="1870200"/>
            <a:ext cx="36576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ddress bus takes the index of the correct 32-bit word (256/4 = 64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Big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lower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029200" y="4873680"/>
            <a:ext cx="3657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rial"/>
              </a:rPr>
              <a:t>Little-endian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convention is that more significant bits of the integer are at </a:t>
            </a:r>
            <a:r>
              <a:rPr b="0" i="1" lang="en-US" sz="1600" spc="-1" strike="noStrike">
                <a:solidFill>
                  <a:srgbClr val="000099"/>
                </a:solidFill>
                <a:latin typeface="Arial"/>
              </a:rPr>
              <a:t>higher</a:t>
            </a: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 addresses, which are at more significant bits of the bus data wor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Therefore it is the same as big-endian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0:16:50Z</dcterms:created>
  <dc:creator>Tim Kogel</dc:creator>
  <dc:description/>
  <dc:language>en-US</dc:language>
  <cp:lastModifiedBy>Torsten Maehne</cp:lastModifiedBy>
  <dcterms:modified xsi:type="dcterms:W3CDTF">2012-04-30T17:09:29Z</dcterms:modified>
  <cp:revision>64</cp:revision>
  <dc:subject/>
  <dc:title>TLM2</dc:title>
</cp:coreProperties>
</file>