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35048"/>
        <c:axId val="18699870"/>
      </c:barChart>
      <c:catAx>
        <c:axId val="74335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99870"/>
        <c:crosses val="autoZero"/>
        <c:auto val="1"/>
        <c:lblAlgn val="ctr"/>
        <c:lblOffset val="100"/>
        <c:noMultiLvlLbl val="0"/>
      </c:catAx>
      <c:valAx>
        <c:axId val="18699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35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EB2-9AE1-4F96-9CA7-1B02DF10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5D2-0FF0-4386-B4A0-A835A100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D49-6356-49FB-ABC6-014E4D6B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BBE-B45F-4216-98AB-3A995E22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E61-4639-4E0B-A838-2ED8AE4A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CA5-7896-4BB7-92AC-A9F71A15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BD4-A94B-48BA-862B-D1573492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3BB-72EC-4216-A67E-AB4C7562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19B-4FCD-4CAF-9CD7-5F0ED605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820-6078-4DEE-B722-B22160D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457-DC5A-4F55-A36E-A77B7014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87C-95BF-4DF2-8DF2-DD1587F4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D15E7-472F-46AE-B2C7-71CA2C1CB7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