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09855"/>
        <c:axId val="6975818"/>
      </c:barChart>
      <c:catAx>
        <c:axId val="25309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818"/>
        <c:crosses val="autoZero"/>
        <c:auto val="1"/>
        <c:lblAlgn val="ctr"/>
        <c:lblOffset val="100"/>
        <c:noMultiLvlLbl val="0"/>
      </c:catAx>
      <c:valAx>
        <c:axId val="6975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09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863-756C-442D-B589-B767B39C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8BE-5B2B-4B3B-91E3-2C9E47E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C68-EE71-4098-9B22-E447D5E8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92D-0A35-4C69-AA5A-2E73F3E0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02C-A45E-4FE5-88FB-79A4A9F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0FE-1B68-4ADA-AB0B-0DA6E1A3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DB7-1272-412B-BE6C-7DF942B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E07-6C77-44A4-B1C5-54BA5B32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332-A00E-4CC0-A577-2D9FD43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889-CBA3-427B-A1F7-934256E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CB1-7540-4836-9C3D-4F06B96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4EB-4F71-4E56-AA58-824D0AD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888E-F5FC-43F1-BBCB-8DD66E9E21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