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82238"/>
        <c:axId val="62669564"/>
      </c:barChart>
      <c:catAx>
        <c:axId val="99982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9564"/>
        <c:crosses val="autoZero"/>
        <c:auto val="1"/>
        <c:lblAlgn val="ctr"/>
        <c:lblOffset val="100"/>
        <c:noMultiLvlLbl val="0"/>
      </c:catAx>
      <c:valAx>
        <c:axId val="62669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2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818-5F79-40B6-8C30-F6E01258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CFD-DC9F-40A6-BA1D-7AAE97B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BC0-ED18-4538-8D0D-7F694394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522-CE8A-4CE9-B424-72261433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64E-3CC2-4AD2-BF62-21F10EE8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05C-71ED-4F90-8325-6DF6714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F06-4897-42BA-BE1D-013F490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A66-9CCC-4FE3-BA62-A66A3FC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EE8-589B-4086-8894-1C2105B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ECF-A9D8-4F39-95F7-984FC22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9FA-6C66-4095-B805-F927745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D89-2264-4A4B-93BF-FB0A029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46010-E588-4D85-AA12-CD06748FD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