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871072"/>
        <c:axId val="18249966"/>
      </c:barChart>
      <c:catAx>
        <c:axId val="708710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49966"/>
        <c:crosses val="autoZero"/>
        <c:auto val="1"/>
        <c:lblAlgn val="ctr"/>
        <c:lblOffset val="100"/>
        <c:noMultiLvlLbl val="0"/>
      </c:catAx>
      <c:valAx>
        <c:axId val="182499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710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42DF-DA32-4EA1-BCA0-30A092A8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8BD-AAAF-4CE6-8E52-E1ADA715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30F1-7D05-433E-AF19-49AFF71D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9583-686E-40EE-B3BC-B2A0FD26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B5BE-8EA2-49B2-A985-7393A690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86C-5728-4B19-A6A2-F8E44906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F739-3F35-4F5E-8FC5-CA1884D3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E98B-DC09-42F8-970D-3B0AFEFF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325C-3111-4ECE-8CE6-3DB04C55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5713-92C9-4BE9-B309-E28D75F1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3DC7-DC2C-433A-BFAD-F0189779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B372-8288-468F-84EC-9CD5E92E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EF27F-EB19-4093-B758-899D692582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